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B17-49CE-4FB8-80D5-1117B07C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DAE-79F9-4C98-8EDF-25101920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DDC-63A7-4E5D-BBDE-266827BE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FB7-E314-410E-9ED0-DDEF5F58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8B48-79FE-4C04-A8B1-7AEA10B4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C265-EBF9-4C80-B03B-50025386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F2EA-5A3F-44CB-BD3D-DFD9E748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B14B-541B-4B94-A350-FB5261E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1447-2A7A-4EB6-94F2-A99319DC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547280" y="259920"/>
            <a:ext cx="75963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1D08-C1F4-4C42-880C-6B4CEB4B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69E4-3807-4ED0-AFDC-AD7C34A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CD6-CB35-47F6-AC11-19E95A9C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A0A2-89CD-4CB1-8772-88193DF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5A2C-B01F-4650-9AE0-9A0F200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0B28-EEF5-46EE-8733-4EF90B81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EA8C-A3A3-41CF-B3EB-EAD23AC7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1BD5-C03F-41E3-88AD-995CB86F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8F9-34FD-4C5A-87C6-992CE08D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5B0-D700-441D-8F4E-4BA0BF7F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D25-B602-4C91-814E-894C7ED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47280" y="259920"/>
            <a:ext cx="75963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0ED-6393-4C6F-BD4D-2F6AE792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586-5461-4F11-8C44-FEB24553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623-B960-477C-8DFA-B0251CE7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7D4-1D92-4B26-8F1E-8A21B32A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59920"/>
            <a:ext cx="9156600" cy="792720"/>
            <a:chOff x="0" y="259920"/>
            <a:chExt cx="9156600" cy="792720"/>
          </a:xfrm>
        </p:grpSpPr>
        <p:sp>
          <p:nvSpPr>
            <p:cNvPr id="1" name=""/>
            <p:cNvSpPr/>
            <p:nvPr/>
          </p:nvSpPr>
          <p:spPr>
            <a:xfrm>
              <a:off x="2880" y="260280"/>
              <a:ext cx="9153720" cy="792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59560"/>
              <a:ext cx="5551560" cy="28188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55920"/>
              <a:ext cx="5876640" cy="38808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160" y="126828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DE0E-629F-440E-B4ED-FE061BE5E332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0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4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F6DB-19E9-42CB-A0B4-14CB3E27C545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3"/>
          <p:cNvSpPr/>
          <p:nvPr/>
        </p:nvSpPr>
        <p:spPr>
          <a:xfrm>
            <a:off x="5508720" y="4221000"/>
            <a:ext cx="744480" cy="493920"/>
          </a:xfrm>
          <a:prstGeom prst="flowChartAlternateProcess">
            <a:avLst/>
          </a:prstGeom>
          <a:solidFill>
            <a:srgbClr val="6699ff"/>
          </a:solidFill>
          <a:ln w="3240">
            <a:solidFill>
              <a:srgbClr val="0055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484280"/>
            <a:ext cx="8856720" cy="4249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8377200" y="3345120"/>
            <a:ext cx="100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-1251000" y="3346560"/>
            <a:ext cx="31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siness Analytics &amp; Optimization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OpenEMR Reference Architecture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18252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E4DB-8548-4394-B263-47863A640F5C}" type="slidenum">
              <a:rPr b="0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Straight Connector 822"/>
          <p:cNvSpPr/>
          <p:nvPr/>
        </p:nvSpPr>
        <p:spPr>
          <a:xfrm flipV="1">
            <a:off x="2087640" y="5438880"/>
            <a:ext cx="0" cy="387360"/>
          </a:xfrm>
          <a:prstGeom prst="line">
            <a:avLst/>
          </a:prstGeom>
          <a:ln w="9360">
            <a:solidFill>
              <a:srgbClr val="71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Straight Connector 823"/>
          <p:cNvSpPr/>
          <p:nvPr/>
        </p:nvSpPr>
        <p:spPr>
          <a:xfrm flipV="1">
            <a:off x="3525840" y="5438880"/>
            <a:ext cx="0" cy="387360"/>
          </a:xfrm>
          <a:prstGeom prst="line">
            <a:avLst/>
          </a:prstGeom>
          <a:ln w="9360">
            <a:solidFill>
              <a:srgbClr val="71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Straight Connector 824"/>
          <p:cNvSpPr/>
          <p:nvPr/>
        </p:nvSpPr>
        <p:spPr>
          <a:xfrm flipV="1">
            <a:off x="4896000" y="5351040"/>
            <a:ext cx="0" cy="474840"/>
          </a:xfrm>
          <a:prstGeom prst="line">
            <a:avLst/>
          </a:prstGeom>
          <a:ln w="9360">
            <a:solidFill>
              <a:srgbClr val="5e8c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Straight Connector 825"/>
          <p:cNvSpPr/>
          <p:nvPr/>
        </p:nvSpPr>
        <p:spPr>
          <a:xfrm flipV="1">
            <a:off x="6407280" y="5428800"/>
            <a:ext cx="0" cy="397080"/>
          </a:xfrm>
          <a:prstGeom prst="line">
            <a:avLst/>
          </a:prstGeom>
          <a:ln w="9360">
            <a:solidFill>
              <a:srgbClr val="71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Straight Connector 827"/>
          <p:cNvSpPr/>
          <p:nvPr/>
        </p:nvSpPr>
        <p:spPr>
          <a:xfrm>
            <a:off x="7888320" y="5438880"/>
            <a:ext cx="0" cy="387360"/>
          </a:xfrm>
          <a:prstGeom prst="line">
            <a:avLst/>
          </a:prstGeom>
          <a:ln w="9360">
            <a:solidFill>
              <a:srgbClr val="71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Rounded Rectangle 15"/>
          <p:cNvSpPr/>
          <p:nvPr/>
        </p:nvSpPr>
        <p:spPr>
          <a:xfrm>
            <a:off x="539640" y="2565360"/>
            <a:ext cx="8124840" cy="1447920"/>
          </a:xfrm>
          <a:prstGeom prst="roundRect">
            <a:avLst>
              <a:gd name="adj" fmla="val 6634"/>
            </a:avLst>
          </a:prstGeom>
          <a:gradFill rotWithShape="0">
            <a:gsLst>
              <a:gs pos="0">
                <a:srgbClr val="d8e3f0"/>
              </a:gs>
              <a:gs pos="100000">
                <a:srgbClr val="f4f7fb"/>
              </a:gs>
            </a:gsLst>
            <a:lin ang="16200000"/>
          </a:gradFill>
          <a:ln w="9360">
            <a:solidFill>
              <a:srgbClr val="b5bf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591"/>
                </a:solidFill>
                <a:latin typeface="Arial Narrow"/>
                <a:ea typeface="MS PGothic"/>
              </a:rPr>
              <a:t>Process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591"/>
                </a:solidFill>
                <a:latin typeface="Arial Narrow"/>
                <a:ea typeface="MS PGothic"/>
              </a:rPr>
              <a:t>Layer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Rounded Rectangle 15"/>
          <p:cNvSpPr/>
          <p:nvPr/>
        </p:nvSpPr>
        <p:spPr>
          <a:xfrm>
            <a:off x="514440" y="1539720"/>
            <a:ext cx="8124840" cy="963720"/>
          </a:xfrm>
          <a:prstGeom prst="roundRect">
            <a:avLst>
              <a:gd name="adj" fmla="val 6634"/>
            </a:avLst>
          </a:prstGeom>
          <a:gradFill rotWithShape="0">
            <a:gsLst>
              <a:gs pos="0">
                <a:srgbClr val="d8e3f0"/>
              </a:gs>
              <a:gs pos="100000">
                <a:srgbClr val="f4f7fb"/>
              </a:gs>
            </a:gsLst>
            <a:lin ang="16200000"/>
          </a:gradFill>
          <a:ln w="9360">
            <a:solidFill>
              <a:srgbClr val="b5bf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591"/>
                </a:solidFill>
                <a:latin typeface="Arial Narrow"/>
                <a:ea typeface="MS PGothic"/>
              </a:rPr>
              <a:t>Presenta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591"/>
                </a:solidFill>
                <a:latin typeface="Arial Narrow"/>
                <a:ea typeface="MS PGothic"/>
              </a:rPr>
              <a:t>Layer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Rounded Rectangle 15"/>
          <p:cNvSpPr/>
          <p:nvPr/>
        </p:nvSpPr>
        <p:spPr>
          <a:xfrm>
            <a:off x="539640" y="4149720"/>
            <a:ext cx="8134560" cy="665280"/>
          </a:xfrm>
          <a:prstGeom prst="roundRect">
            <a:avLst>
              <a:gd name="adj" fmla="val 6634"/>
            </a:avLst>
          </a:prstGeom>
          <a:gradFill rotWithShape="0">
            <a:gsLst>
              <a:gs pos="0">
                <a:srgbClr val="d8e3f0"/>
              </a:gs>
              <a:gs pos="100000">
                <a:srgbClr val="f4f7fb"/>
              </a:gs>
            </a:gsLst>
            <a:lin ang="16200000"/>
          </a:gradFill>
          <a:ln w="9360">
            <a:solidFill>
              <a:srgbClr val="b5bf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591"/>
                </a:solidFill>
                <a:latin typeface="Arial Narrow"/>
                <a:ea typeface="MS PGothic"/>
              </a:rPr>
              <a:t>Dat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591"/>
                </a:solidFill>
                <a:latin typeface="Arial Narrow"/>
                <a:ea typeface="MS PGothic"/>
              </a:rPr>
              <a:t>Layer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Rounded Rectangle 15"/>
          <p:cNvSpPr/>
          <p:nvPr/>
        </p:nvSpPr>
        <p:spPr>
          <a:xfrm>
            <a:off x="514440" y="4892760"/>
            <a:ext cx="8119800" cy="755640"/>
          </a:xfrm>
          <a:prstGeom prst="roundRect">
            <a:avLst>
              <a:gd name="adj" fmla="val 6634"/>
            </a:avLst>
          </a:prstGeom>
          <a:gradFill rotWithShape="0">
            <a:gsLst>
              <a:gs pos="0">
                <a:srgbClr val="d8e3f0"/>
              </a:gs>
              <a:gs pos="100000">
                <a:srgbClr val="f4f7fb"/>
              </a:gs>
            </a:gsLst>
            <a:lin ang="16200000"/>
          </a:gradFill>
          <a:ln w="9360">
            <a:solidFill>
              <a:srgbClr val="b5bf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591"/>
                </a:solidFill>
                <a:latin typeface="Arial Narrow"/>
                <a:ea typeface="MS PGothic"/>
              </a:rPr>
              <a:t>Integra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591"/>
                </a:solidFill>
                <a:latin typeface="Arial Narrow"/>
                <a:ea typeface="MS PGothic"/>
              </a:rPr>
              <a:t>Layer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1547640" y="1773360"/>
            <a:ext cx="6961320" cy="581040"/>
          </a:xfrm>
          <a:prstGeom prst="flowChartAlternateProcess">
            <a:avLst/>
          </a:prstGeom>
          <a:solidFill>
            <a:srgbClr val="2f74ff"/>
          </a:solidFill>
          <a:ln w="3240">
            <a:solidFill>
              <a:srgbClr val="0055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Narrow"/>
                <a:ea typeface="MS PGothic"/>
              </a:rPr>
              <a:t>Role-based Portal Access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AutoShape 33"/>
          <p:cNvSpPr/>
          <p:nvPr/>
        </p:nvSpPr>
        <p:spPr>
          <a:xfrm>
            <a:off x="2124000" y="4243320"/>
            <a:ext cx="744480" cy="493920"/>
          </a:xfrm>
          <a:prstGeom prst="flowChartAlternateProcess">
            <a:avLst/>
          </a:prstGeom>
          <a:solidFill>
            <a:srgbClr val="6699ff"/>
          </a:solidFill>
          <a:ln w="3240">
            <a:solidFill>
              <a:srgbClr val="0055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AutoShape 63"/>
          <p:cNvSpPr/>
          <p:nvPr/>
        </p:nvSpPr>
        <p:spPr>
          <a:xfrm>
            <a:off x="2190600" y="4287960"/>
            <a:ext cx="611280" cy="38556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Patient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Data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1880" y="4233960"/>
            <a:ext cx="744480" cy="493560"/>
            <a:chOff x="5411880" y="4233960"/>
            <a:chExt cx="744480" cy="493560"/>
          </a:xfrm>
        </p:grpSpPr>
        <p:sp>
          <p:nvSpPr>
            <p:cNvPr id="122" name="AutoShape 33"/>
            <p:cNvSpPr/>
            <p:nvPr/>
          </p:nvSpPr>
          <p:spPr>
            <a:xfrm>
              <a:off x="5411880" y="4233960"/>
              <a:ext cx="744480" cy="493560"/>
            </a:xfrm>
            <a:prstGeom prst="flowChartAlternateProcess">
              <a:avLst/>
            </a:prstGeom>
            <a:solidFill>
              <a:srgbClr val="6699ff"/>
            </a:solidFill>
            <a:ln w="3240">
              <a:solidFill>
                <a:srgbClr val="005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AutoShape 63"/>
            <p:cNvSpPr/>
            <p:nvPr/>
          </p:nvSpPr>
          <p:spPr>
            <a:xfrm>
              <a:off x="5483160" y="4290840"/>
              <a:ext cx="611280" cy="385920"/>
            </a:xfrm>
            <a:prstGeom prst="flowChartAlternateProcess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Documen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Mgm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4" name="AutoShape 54"/>
          <p:cNvSpPr/>
          <p:nvPr/>
        </p:nvSpPr>
        <p:spPr>
          <a:xfrm>
            <a:off x="1542960" y="5054760"/>
            <a:ext cx="6959520" cy="450720"/>
          </a:xfrm>
          <a:prstGeom prst="flowChartAlternateProcess">
            <a:avLst/>
          </a:prstGeom>
          <a:solidFill>
            <a:srgbClr val="6600cc"/>
          </a:solidFill>
          <a:ln w="3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MS PGothic"/>
              </a:rPr>
              <a:t>HL7 Engine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Can 860"/>
          <p:cNvSpPr/>
          <p:nvPr/>
        </p:nvSpPr>
        <p:spPr>
          <a:xfrm>
            <a:off x="1689120" y="5826240"/>
            <a:ext cx="795240" cy="422280"/>
          </a:xfrm>
          <a:prstGeom prst="can">
            <a:avLst>
              <a:gd name="adj" fmla="val 25000"/>
            </a:avLst>
          </a:prstGeom>
          <a:solidFill>
            <a:srgbClr val="71b8ff"/>
          </a:solidFill>
          <a:ln w="3240">
            <a:solidFill>
              <a:srgbClr val="71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MS PGothic"/>
              </a:rPr>
              <a:t>LIS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Can 861"/>
          <p:cNvSpPr/>
          <p:nvPr/>
        </p:nvSpPr>
        <p:spPr>
          <a:xfrm>
            <a:off x="3127320" y="5826240"/>
            <a:ext cx="797040" cy="422280"/>
          </a:xfrm>
          <a:prstGeom prst="can">
            <a:avLst>
              <a:gd name="adj" fmla="val 25000"/>
            </a:avLst>
          </a:prstGeom>
          <a:solidFill>
            <a:srgbClr val="71b8ff"/>
          </a:solidFill>
          <a:ln w="3240">
            <a:solidFill>
              <a:srgbClr val="71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MS PGothic"/>
              </a:rPr>
              <a:t>PACS/RIS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Can 862"/>
          <p:cNvSpPr/>
          <p:nvPr/>
        </p:nvSpPr>
        <p:spPr>
          <a:xfrm>
            <a:off x="4497480" y="5826240"/>
            <a:ext cx="795240" cy="422280"/>
          </a:xfrm>
          <a:prstGeom prst="can">
            <a:avLst>
              <a:gd name="adj" fmla="val 25000"/>
            </a:avLst>
          </a:prstGeom>
          <a:solidFill>
            <a:srgbClr val="71b8ff"/>
          </a:solidFill>
          <a:ln w="3240">
            <a:solidFill>
              <a:srgbClr val="71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MS PGothic"/>
              </a:rPr>
              <a:t>PIS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Can 863"/>
          <p:cNvSpPr/>
          <p:nvPr/>
        </p:nvSpPr>
        <p:spPr>
          <a:xfrm>
            <a:off x="6008760" y="5826240"/>
            <a:ext cx="795240" cy="422280"/>
          </a:xfrm>
          <a:prstGeom prst="can">
            <a:avLst>
              <a:gd name="adj" fmla="val 25000"/>
            </a:avLst>
          </a:prstGeom>
          <a:solidFill>
            <a:srgbClr val="71b8ff"/>
          </a:solidFill>
          <a:ln w="3240">
            <a:solidFill>
              <a:srgbClr val="71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MS PGothic"/>
              </a:rPr>
              <a:t>HIS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Can 865"/>
          <p:cNvSpPr/>
          <p:nvPr/>
        </p:nvSpPr>
        <p:spPr>
          <a:xfrm>
            <a:off x="7491240" y="5826240"/>
            <a:ext cx="795600" cy="422280"/>
          </a:xfrm>
          <a:prstGeom prst="can">
            <a:avLst>
              <a:gd name="adj" fmla="val 25000"/>
            </a:avLst>
          </a:prstGeom>
          <a:solidFill>
            <a:srgbClr val="71b8ff"/>
          </a:solidFill>
          <a:ln w="3240">
            <a:solidFill>
              <a:srgbClr val="71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MS PGothic"/>
              </a:rPr>
              <a:t>Financial System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AutoShape 33"/>
          <p:cNvSpPr/>
          <p:nvPr/>
        </p:nvSpPr>
        <p:spPr>
          <a:xfrm>
            <a:off x="4351320" y="4233960"/>
            <a:ext cx="744480" cy="493560"/>
          </a:xfrm>
          <a:prstGeom prst="flowChartAlternateProcess">
            <a:avLst/>
          </a:prstGeom>
          <a:solidFill>
            <a:srgbClr val="6699ff"/>
          </a:solidFill>
          <a:ln w="3240">
            <a:solidFill>
              <a:srgbClr val="0055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AutoShape 63"/>
          <p:cNvSpPr/>
          <p:nvPr/>
        </p:nvSpPr>
        <p:spPr>
          <a:xfrm>
            <a:off x="4417920" y="4287960"/>
            <a:ext cx="611280" cy="38556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Billing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Data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AutoShape 54"/>
          <p:cNvSpPr/>
          <p:nvPr/>
        </p:nvSpPr>
        <p:spPr>
          <a:xfrm>
            <a:off x="5219640" y="1341360"/>
            <a:ext cx="606600" cy="304920"/>
          </a:xfrm>
          <a:prstGeom prst="flowChartAlternateProcess">
            <a:avLst/>
          </a:prstGeom>
          <a:gradFill rotWithShape="0">
            <a:gsLst>
              <a:gs pos="0">
                <a:srgbClr val="d8e3f0"/>
              </a:gs>
              <a:gs pos="100000">
                <a:srgbClr val="f4f7fb"/>
              </a:gs>
            </a:gsLst>
            <a:lin ang="16200000"/>
          </a:gradFill>
          <a:ln w="9360">
            <a:solidFill>
              <a:srgbClr val="b5bf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5591"/>
                </a:solidFill>
                <a:latin typeface="Arial Narrow"/>
                <a:ea typeface="MS PGothic"/>
              </a:rPr>
              <a:t>Mobile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AutoShape 54"/>
          <p:cNvSpPr/>
          <p:nvPr/>
        </p:nvSpPr>
        <p:spPr>
          <a:xfrm>
            <a:off x="2843280" y="1341360"/>
            <a:ext cx="604800" cy="304920"/>
          </a:xfrm>
          <a:prstGeom prst="flowChartAlternateProcess">
            <a:avLst/>
          </a:prstGeom>
          <a:gradFill rotWithShape="0">
            <a:gsLst>
              <a:gs pos="0">
                <a:srgbClr val="d8e3f0"/>
              </a:gs>
              <a:gs pos="100000">
                <a:srgbClr val="f4f7fb"/>
              </a:gs>
            </a:gsLst>
            <a:lin ang="16200000"/>
          </a:gradFill>
          <a:ln w="9360">
            <a:solidFill>
              <a:srgbClr val="b5bf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5591"/>
                </a:solidFill>
                <a:latin typeface="Arial Narrow"/>
                <a:ea typeface="MS PGothic"/>
              </a:rPr>
              <a:t>Web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4" name="Group 874"/>
          <p:cNvGrpSpPr/>
          <p:nvPr/>
        </p:nvGrpSpPr>
        <p:grpSpPr>
          <a:xfrm>
            <a:off x="6879600" y="728640"/>
            <a:ext cx="979200" cy="599400"/>
            <a:chOff x="6879600" y="728640"/>
            <a:chExt cx="979200" cy="599400"/>
          </a:xfrm>
        </p:grpSpPr>
        <p:sp>
          <p:nvSpPr>
            <p:cNvPr id="135" name="Text Box 77"/>
            <p:cNvSpPr/>
            <p:nvPr/>
          </p:nvSpPr>
          <p:spPr>
            <a:xfrm>
              <a:off x="6879600" y="1114560"/>
              <a:ext cx="97920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b56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5591"/>
                  </a:solidFill>
                  <a:latin typeface="Arial"/>
                  <a:ea typeface="Arial Unicode MS"/>
                </a:rPr>
                <a:t>Regional Clinic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36" name="Picture 876" descr=""/>
            <p:cNvPicPr/>
            <p:nvPr/>
          </p:nvPicPr>
          <p:blipFill>
            <a:blip r:embed="rId1"/>
            <a:stretch/>
          </p:blipFill>
          <p:spPr>
            <a:xfrm>
              <a:off x="7157880" y="728640"/>
              <a:ext cx="41436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880"/>
          <p:cNvGrpSpPr/>
          <p:nvPr/>
        </p:nvGrpSpPr>
        <p:grpSpPr>
          <a:xfrm>
            <a:off x="1796040" y="728640"/>
            <a:ext cx="654480" cy="594720"/>
            <a:chOff x="1796040" y="728640"/>
            <a:chExt cx="654480" cy="594720"/>
          </a:xfrm>
        </p:grpSpPr>
        <p:sp>
          <p:nvSpPr>
            <p:cNvPr id="138" name="Text Box 68"/>
            <p:cNvSpPr/>
            <p:nvPr/>
          </p:nvSpPr>
          <p:spPr>
            <a:xfrm>
              <a:off x="1796040" y="1109880"/>
              <a:ext cx="6544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b56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5591"/>
                  </a:solidFill>
                  <a:latin typeface="Arial"/>
                  <a:ea typeface="Arial Unicode MS"/>
                </a:rPr>
                <a:t>Provider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39" name="Picture 882" descr=""/>
            <p:cNvPicPr/>
            <p:nvPr/>
          </p:nvPicPr>
          <p:blipFill>
            <a:blip r:embed="rId2"/>
            <a:stretch/>
          </p:blipFill>
          <p:spPr>
            <a:xfrm>
              <a:off x="2014920" y="728640"/>
              <a:ext cx="2102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883"/>
          <p:cNvGrpSpPr/>
          <p:nvPr/>
        </p:nvGrpSpPr>
        <p:grpSpPr>
          <a:xfrm>
            <a:off x="4403880" y="723960"/>
            <a:ext cx="650520" cy="588240"/>
            <a:chOff x="4403880" y="723960"/>
            <a:chExt cx="650520" cy="588240"/>
          </a:xfrm>
        </p:grpSpPr>
        <p:sp>
          <p:nvSpPr>
            <p:cNvPr id="141" name="Text Box 71"/>
            <p:cNvSpPr/>
            <p:nvPr/>
          </p:nvSpPr>
          <p:spPr>
            <a:xfrm>
              <a:off x="4412160" y="1098720"/>
              <a:ext cx="6422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b56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5591"/>
                  </a:solidFill>
                  <a:latin typeface="Arial"/>
                  <a:ea typeface="Arial Unicode MS"/>
                </a:rPr>
                <a:t>Hospital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42" name="Picture 885" descr=""/>
            <p:cNvPicPr/>
            <p:nvPr/>
          </p:nvPicPr>
          <p:blipFill>
            <a:blip r:embed="rId3"/>
            <a:stretch/>
          </p:blipFill>
          <p:spPr>
            <a:xfrm>
              <a:off x="4403880" y="723960"/>
              <a:ext cx="648000" cy="40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5867280" y="1835280"/>
            <a:ext cx="745920" cy="492120"/>
            <a:chOff x="5867280" y="1835280"/>
            <a:chExt cx="745920" cy="492120"/>
          </a:xfrm>
        </p:grpSpPr>
        <p:sp>
          <p:nvSpPr>
            <p:cNvPr id="144" name="AutoShape 33"/>
            <p:cNvSpPr/>
            <p:nvPr/>
          </p:nvSpPr>
          <p:spPr>
            <a:xfrm>
              <a:off x="5867280" y="1835280"/>
              <a:ext cx="745920" cy="492120"/>
            </a:xfrm>
            <a:prstGeom prst="flowChartAlternateProcess">
              <a:avLst/>
            </a:prstGeom>
            <a:solidFill>
              <a:srgbClr val="6699ff"/>
            </a:solidFill>
            <a:ln w="3240">
              <a:solidFill>
                <a:srgbClr val="005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63"/>
            <p:cNvSpPr/>
            <p:nvPr/>
          </p:nvSpPr>
          <p:spPr>
            <a:xfrm>
              <a:off x="5924520" y="1889280"/>
              <a:ext cx="612720" cy="384120"/>
            </a:xfrm>
            <a:prstGeom prst="flowChartAlternateProcess">
              <a:avLst/>
            </a:prstGeom>
            <a:solidFill>
              <a:srgbClr val="99cc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PHPGACL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51640" y="1825560"/>
            <a:ext cx="744480" cy="492120"/>
            <a:chOff x="7451640" y="1825560"/>
            <a:chExt cx="744480" cy="492120"/>
          </a:xfrm>
        </p:grpSpPr>
        <p:sp>
          <p:nvSpPr>
            <p:cNvPr id="147" name="AutoShape 33"/>
            <p:cNvSpPr/>
            <p:nvPr/>
          </p:nvSpPr>
          <p:spPr>
            <a:xfrm>
              <a:off x="7451640" y="1825560"/>
              <a:ext cx="744480" cy="492120"/>
            </a:xfrm>
            <a:prstGeom prst="flowChartAlternateProcess">
              <a:avLst/>
            </a:prstGeom>
            <a:solidFill>
              <a:srgbClr val="6699ff"/>
            </a:solidFill>
            <a:ln w="3240">
              <a:solidFill>
                <a:srgbClr val="005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AutoShape 63"/>
            <p:cNvSpPr/>
            <p:nvPr/>
          </p:nvSpPr>
          <p:spPr>
            <a:xfrm>
              <a:off x="7527600" y="1879560"/>
              <a:ext cx="610920" cy="384120"/>
            </a:xfrm>
            <a:prstGeom prst="flowChartAlternateProcess">
              <a:avLst/>
            </a:prstGeom>
            <a:solidFill>
              <a:srgbClr val="99cc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Report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9" name="AutoShape 33"/>
          <p:cNvSpPr/>
          <p:nvPr/>
        </p:nvSpPr>
        <p:spPr>
          <a:xfrm>
            <a:off x="3236760" y="4232160"/>
            <a:ext cx="746280" cy="493920"/>
          </a:xfrm>
          <a:prstGeom prst="flowChartAlternateProcess">
            <a:avLst/>
          </a:prstGeom>
          <a:solidFill>
            <a:srgbClr val="6699ff"/>
          </a:solidFill>
          <a:ln w="3240">
            <a:solidFill>
              <a:srgbClr val="0055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63"/>
          <p:cNvSpPr/>
          <p:nvPr/>
        </p:nvSpPr>
        <p:spPr>
          <a:xfrm>
            <a:off x="3303720" y="4287960"/>
            <a:ext cx="612720" cy="38556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Practice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Mgmt. Data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443640" y="4230720"/>
            <a:ext cx="744480" cy="493560"/>
            <a:chOff x="6443640" y="4230720"/>
            <a:chExt cx="744480" cy="493560"/>
          </a:xfrm>
        </p:grpSpPr>
        <p:sp>
          <p:nvSpPr>
            <p:cNvPr id="152" name="AutoShape 33"/>
            <p:cNvSpPr/>
            <p:nvPr/>
          </p:nvSpPr>
          <p:spPr>
            <a:xfrm>
              <a:off x="6443640" y="4230720"/>
              <a:ext cx="744480" cy="493560"/>
            </a:xfrm>
            <a:prstGeom prst="flowChartAlternateProcess">
              <a:avLst/>
            </a:prstGeom>
            <a:solidFill>
              <a:srgbClr val="993366"/>
            </a:solidFill>
            <a:ln w="3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AutoShape 63"/>
            <p:cNvSpPr/>
            <p:nvPr/>
          </p:nvSpPr>
          <p:spPr>
            <a:xfrm>
              <a:off x="6514920" y="4292640"/>
              <a:ext cx="612360" cy="385560"/>
            </a:xfrm>
            <a:prstGeom prst="flowChartAlternateProcess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Imaging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Data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AutoShape 54"/>
          <p:cNvSpPr/>
          <p:nvPr/>
        </p:nvSpPr>
        <p:spPr>
          <a:xfrm>
            <a:off x="5219640" y="1341360"/>
            <a:ext cx="606600" cy="304920"/>
          </a:xfrm>
          <a:prstGeom prst="flowChartAlternateProcess">
            <a:avLst/>
          </a:prstGeom>
          <a:solidFill>
            <a:srgbClr val="2f74ff"/>
          </a:solidFill>
          <a:ln w="9360">
            <a:solidFill>
              <a:srgbClr val="b5bf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  <a:ea typeface="MS PGothic"/>
              </a:rPr>
              <a:t>Mobile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AutoShape 54"/>
          <p:cNvSpPr/>
          <p:nvPr/>
        </p:nvSpPr>
        <p:spPr>
          <a:xfrm>
            <a:off x="2843280" y="1341360"/>
            <a:ext cx="604800" cy="304920"/>
          </a:xfrm>
          <a:prstGeom prst="flowChartAlternateProcess">
            <a:avLst/>
          </a:prstGeom>
          <a:solidFill>
            <a:srgbClr val="2f74ff"/>
          </a:solidFill>
          <a:ln w="9360">
            <a:solidFill>
              <a:srgbClr val="3399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  <a:ea typeface="MS PGothic"/>
              </a:rPr>
              <a:t>Web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132000" y="2689200"/>
            <a:ext cx="1677960" cy="1174680"/>
            <a:chOff x="3132000" y="2689200"/>
            <a:chExt cx="1677960" cy="1174680"/>
          </a:xfrm>
        </p:grpSpPr>
        <p:sp>
          <p:nvSpPr>
            <p:cNvPr id="157" name="Rounded Rectangle 15"/>
            <p:cNvSpPr/>
            <p:nvPr/>
          </p:nvSpPr>
          <p:spPr>
            <a:xfrm>
              <a:off x="3132000" y="2689200"/>
              <a:ext cx="1677960" cy="1174680"/>
            </a:xfrm>
            <a:prstGeom prst="roundRect">
              <a:avLst>
                <a:gd name="adj" fmla="val 6634"/>
              </a:avLst>
            </a:prstGeom>
            <a:solidFill>
              <a:srgbClr val="6699ff"/>
            </a:solidFill>
            <a:ln w="9360">
              <a:solidFill>
                <a:srgbClr val="005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Medical Practice Mgmt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AutoShape 61"/>
            <p:cNvSpPr/>
            <p:nvPr/>
          </p:nvSpPr>
          <p:spPr>
            <a:xfrm>
              <a:off x="4066920" y="3409920"/>
              <a:ext cx="61128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Prescription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AutoShape 63"/>
            <p:cNvSpPr/>
            <p:nvPr/>
          </p:nvSpPr>
          <p:spPr>
            <a:xfrm>
              <a:off x="3274920" y="2976480"/>
              <a:ext cx="61092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Electronic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Medical Record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63"/>
            <p:cNvSpPr/>
            <p:nvPr/>
          </p:nvSpPr>
          <p:spPr>
            <a:xfrm>
              <a:off x="4066920" y="2976480"/>
              <a:ext cx="61128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Clinical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Decision Rule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87280" y="2708280"/>
            <a:ext cx="1677960" cy="1174680"/>
            <a:chOff x="1187280" y="2708280"/>
            <a:chExt cx="1677960" cy="1174680"/>
          </a:xfrm>
        </p:grpSpPr>
        <p:sp>
          <p:nvSpPr>
            <p:cNvPr id="162" name="AutoShape 63"/>
            <p:cNvSpPr/>
            <p:nvPr/>
          </p:nvSpPr>
          <p:spPr>
            <a:xfrm>
              <a:off x="1330200" y="3092400"/>
              <a:ext cx="61128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Patien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Demographic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AutoShape 63"/>
            <p:cNvSpPr/>
            <p:nvPr/>
          </p:nvSpPr>
          <p:spPr>
            <a:xfrm>
              <a:off x="2122560" y="3090960"/>
              <a:ext cx="61092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Patien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Scheduling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AutoShape 63"/>
            <p:cNvSpPr/>
            <p:nvPr/>
          </p:nvSpPr>
          <p:spPr>
            <a:xfrm>
              <a:off x="1330200" y="3092400"/>
              <a:ext cx="61128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Patien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Demographic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AutoShape 63"/>
            <p:cNvSpPr/>
            <p:nvPr/>
          </p:nvSpPr>
          <p:spPr>
            <a:xfrm>
              <a:off x="2122560" y="3090960"/>
              <a:ext cx="61092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Patien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Scheduling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AutoShape 63"/>
            <p:cNvSpPr/>
            <p:nvPr/>
          </p:nvSpPr>
          <p:spPr>
            <a:xfrm>
              <a:off x="1330200" y="3092400"/>
              <a:ext cx="61128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Patien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Demographic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>
              <a:off x="2122560" y="3090960"/>
              <a:ext cx="61092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Patien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Scheduling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AutoShape 63"/>
            <p:cNvSpPr/>
            <p:nvPr/>
          </p:nvSpPr>
          <p:spPr>
            <a:xfrm>
              <a:off x="1330200" y="3102120"/>
              <a:ext cx="611280" cy="38556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Patien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Demographic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AutoShape 63"/>
            <p:cNvSpPr/>
            <p:nvPr/>
          </p:nvSpPr>
          <p:spPr>
            <a:xfrm>
              <a:off x="2122560" y="3100320"/>
              <a:ext cx="61092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Patient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Scheduling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187280" y="2708280"/>
              <a:ext cx="1677960" cy="1174680"/>
              <a:chOff x="1187280" y="2708280"/>
              <a:chExt cx="1677960" cy="1174680"/>
            </a:xfrm>
          </p:grpSpPr>
          <p:sp>
            <p:nvSpPr>
              <p:cNvPr id="171" name="Rounded Rectangle 15"/>
              <p:cNvSpPr/>
              <p:nvPr/>
            </p:nvSpPr>
            <p:spPr>
              <a:xfrm>
                <a:off x="1187280" y="2708280"/>
                <a:ext cx="1677960" cy="1174680"/>
              </a:xfrm>
              <a:prstGeom prst="roundRect">
                <a:avLst>
                  <a:gd name="adj" fmla="val 6634"/>
                </a:avLst>
              </a:prstGeom>
              <a:solidFill>
                <a:srgbClr val="6699ff"/>
              </a:solidFill>
              <a:ln w="9360">
                <a:solidFill>
                  <a:srgbClr val="0055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  <a:ea typeface="MS PGothic"/>
                  </a:rPr>
                  <a:t>Patient</a:t>
                </a:r>
                <a:endParaRPr b="0" lang="en-US" sz="1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2" name="AutoShape 63"/>
              <p:cNvSpPr/>
              <p:nvPr/>
            </p:nvSpPr>
            <p:spPr>
              <a:xfrm>
                <a:off x="1330200" y="2997360"/>
                <a:ext cx="611280" cy="385560"/>
              </a:xfrm>
              <a:prstGeom prst="flowChartAlternateProcess">
                <a:avLst/>
              </a:prstGeom>
              <a:solidFill>
                <a:srgbClr val="2f74ff"/>
              </a:solidFill>
              <a:ln w="9360">
                <a:solidFill>
                  <a:srgbClr val="2f7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ts val="7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Narrow"/>
                    <a:ea typeface="Arial Unicode MS"/>
                  </a:rPr>
                  <a:t>Patient</a:t>
                </a: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ts val="7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Narrow"/>
                    <a:ea typeface="Arial Unicode MS"/>
                  </a:rPr>
                  <a:t>Demographics</a:t>
                </a: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3" name="AutoShape 63"/>
              <p:cNvSpPr/>
              <p:nvPr/>
            </p:nvSpPr>
            <p:spPr>
              <a:xfrm>
                <a:off x="2122560" y="2995560"/>
                <a:ext cx="610920" cy="385920"/>
              </a:xfrm>
              <a:prstGeom prst="flowChartAlternateProcess">
                <a:avLst/>
              </a:prstGeom>
              <a:solidFill>
                <a:srgbClr val="2f74ff"/>
              </a:solidFill>
              <a:ln w="9360">
                <a:solidFill>
                  <a:srgbClr val="2f7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ts val="7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Narrow"/>
                    <a:ea typeface="Arial Unicode MS"/>
                  </a:rPr>
                  <a:t>Patient</a:t>
                </a: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ts val="7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Narrow"/>
                    <a:ea typeface="Arial Unicode MS"/>
                  </a:rPr>
                  <a:t>Scheduling</a:t>
                </a: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5019840" y="2685960"/>
            <a:ext cx="1677960" cy="1174680"/>
            <a:chOff x="5019840" y="2685960"/>
            <a:chExt cx="1677960" cy="1174680"/>
          </a:xfrm>
        </p:grpSpPr>
        <p:sp>
          <p:nvSpPr>
            <p:cNvPr id="175" name="AutoShape 63"/>
            <p:cNvSpPr/>
            <p:nvPr/>
          </p:nvSpPr>
          <p:spPr>
            <a:xfrm>
              <a:off x="5634360" y="3143160"/>
              <a:ext cx="61092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Medical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Billing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Rounded Rectangle 15"/>
            <p:cNvSpPr/>
            <p:nvPr/>
          </p:nvSpPr>
          <p:spPr>
            <a:xfrm>
              <a:off x="5019840" y="2685960"/>
              <a:ext cx="1677960" cy="1174680"/>
            </a:xfrm>
            <a:prstGeom prst="roundRect">
              <a:avLst>
                <a:gd name="adj" fmla="val 6634"/>
              </a:avLst>
            </a:prstGeom>
            <a:solidFill>
              <a:srgbClr val="6699ff"/>
            </a:solidFill>
            <a:ln w="9360">
              <a:solidFill>
                <a:srgbClr val="005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Billing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AutoShape 63"/>
            <p:cNvSpPr/>
            <p:nvPr/>
          </p:nvSpPr>
          <p:spPr>
            <a:xfrm>
              <a:off x="5573880" y="3019320"/>
              <a:ext cx="611280" cy="385920"/>
            </a:xfrm>
            <a:prstGeom prst="flowChartAlternateProcess">
              <a:avLst/>
            </a:prstGeom>
            <a:solidFill>
              <a:srgbClr val="2f74ff"/>
            </a:solidFill>
            <a:ln w="9360">
              <a:solidFill>
                <a:srgbClr val="2f7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Medical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Billing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886440" y="2698920"/>
            <a:ext cx="1677960" cy="1174680"/>
            <a:chOff x="6886440" y="2698920"/>
            <a:chExt cx="1677960" cy="1174680"/>
          </a:xfrm>
        </p:grpSpPr>
        <p:sp>
          <p:nvSpPr>
            <p:cNvPr id="179" name="Rounded Rectangle 15"/>
            <p:cNvSpPr/>
            <p:nvPr/>
          </p:nvSpPr>
          <p:spPr>
            <a:xfrm>
              <a:off x="6886440" y="2698920"/>
              <a:ext cx="1677960" cy="1174680"/>
            </a:xfrm>
            <a:prstGeom prst="roundRect">
              <a:avLst>
                <a:gd name="adj" fmla="val 6634"/>
              </a:avLst>
            </a:prstGeom>
            <a:solidFill>
              <a:srgbClr val="993366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MS PGothic"/>
                </a:rPr>
                <a:t>Medical Imaging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AutoShape 63"/>
            <p:cNvSpPr/>
            <p:nvPr/>
          </p:nvSpPr>
          <p:spPr>
            <a:xfrm>
              <a:off x="7427880" y="3059280"/>
              <a:ext cx="610920" cy="385920"/>
            </a:xfrm>
            <a:prstGeom prst="flowChartAlternateProcess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Imaging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Arial Unicode MS"/>
                </a:rPr>
                <a:t>Records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1" name="Rectangle 930"/>
          <p:cNvSpPr/>
          <p:nvPr/>
        </p:nvSpPr>
        <p:spPr>
          <a:xfrm>
            <a:off x="1336680" y="6318360"/>
            <a:ext cx="1488960" cy="439560"/>
          </a:xfrm>
          <a:prstGeom prst="rect">
            <a:avLst/>
          </a:prstGeom>
          <a:noFill/>
          <a:ln w="6480">
            <a:solidFill>
              <a:srgbClr val="476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ounded Rectangle 15"/>
          <p:cNvSpPr/>
          <p:nvPr/>
        </p:nvSpPr>
        <p:spPr>
          <a:xfrm>
            <a:off x="2298600" y="6418440"/>
            <a:ext cx="433440" cy="247320"/>
          </a:xfrm>
          <a:prstGeom prst="roundRect">
            <a:avLst>
              <a:gd name="adj" fmla="val 6634"/>
            </a:avLst>
          </a:prstGeom>
          <a:solidFill>
            <a:srgbClr val="71b8ff"/>
          </a:solidFill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TextBox 933"/>
          <p:cNvSpPr/>
          <p:nvPr/>
        </p:nvSpPr>
        <p:spPr>
          <a:xfrm>
            <a:off x="1697760" y="6367320"/>
            <a:ext cx="621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Other 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Systems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Rectangle 934"/>
          <p:cNvSpPr/>
          <p:nvPr/>
        </p:nvSpPr>
        <p:spPr>
          <a:xfrm>
            <a:off x="611280" y="6389640"/>
            <a:ext cx="838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 Narrow"/>
                <a:ea typeface="MS PGothic"/>
              </a:rPr>
              <a:t>LEGEND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Rounded Rectangle 15"/>
          <p:cNvSpPr/>
          <p:nvPr/>
        </p:nvSpPr>
        <p:spPr>
          <a:xfrm>
            <a:off x="4054320" y="6405480"/>
            <a:ext cx="432000" cy="246240"/>
          </a:xfrm>
          <a:prstGeom prst="roundRect">
            <a:avLst>
              <a:gd name="adj" fmla="val 6634"/>
            </a:avLst>
          </a:prstGeom>
          <a:solidFill>
            <a:srgbClr val="a50021"/>
          </a:solidFill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Rectangle 951"/>
          <p:cNvSpPr/>
          <p:nvPr/>
        </p:nvSpPr>
        <p:spPr>
          <a:xfrm>
            <a:off x="3059280" y="6308640"/>
            <a:ext cx="1488960" cy="439920"/>
          </a:xfrm>
          <a:prstGeom prst="rect">
            <a:avLst/>
          </a:prstGeom>
          <a:noFill/>
          <a:ln w="6480">
            <a:solidFill>
              <a:srgbClr val="476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TextBox 952"/>
          <p:cNvSpPr/>
          <p:nvPr/>
        </p:nvSpPr>
        <p:spPr>
          <a:xfrm>
            <a:off x="3059280" y="6357960"/>
            <a:ext cx="1033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Not currently in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OpenEMR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843280" y="1825560"/>
            <a:ext cx="745920" cy="492120"/>
            <a:chOff x="2843280" y="1825560"/>
            <a:chExt cx="745920" cy="492120"/>
          </a:xfrm>
        </p:grpSpPr>
        <p:sp>
          <p:nvSpPr>
            <p:cNvPr id="189" name="AutoShape 33"/>
            <p:cNvSpPr/>
            <p:nvPr/>
          </p:nvSpPr>
          <p:spPr>
            <a:xfrm>
              <a:off x="2843280" y="1825560"/>
              <a:ext cx="745920" cy="492120"/>
            </a:xfrm>
            <a:prstGeom prst="flowChartAlternateProcess">
              <a:avLst/>
            </a:prstGeom>
            <a:solidFill>
              <a:srgbClr val="6699ff"/>
            </a:solidFill>
            <a:ln w="3240">
              <a:solidFill>
                <a:srgbClr val="005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AutoShape 63"/>
            <p:cNvSpPr/>
            <p:nvPr/>
          </p:nvSpPr>
          <p:spPr>
            <a:xfrm>
              <a:off x="2906640" y="1888920"/>
              <a:ext cx="612360" cy="384120"/>
            </a:xfrm>
            <a:prstGeom prst="flowChartAlternateProcess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7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Patient Portal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1" name="Rounded Rectangle 15"/>
          <p:cNvSpPr/>
          <p:nvPr/>
        </p:nvSpPr>
        <p:spPr>
          <a:xfrm>
            <a:off x="5734080" y="6405480"/>
            <a:ext cx="431640" cy="246240"/>
          </a:xfrm>
          <a:prstGeom prst="roundRect">
            <a:avLst>
              <a:gd name="adj" fmla="val 6634"/>
            </a:avLst>
          </a:prstGeom>
          <a:solidFill>
            <a:srgbClr val="6600cc"/>
          </a:solidFill>
          <a:ln w="3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951"/>
          <p:cNvSpPr/>
          <p:nvPr/>
        </p:nvSpPr>
        <p:spPr>
          <a:xfrm>
            <a:off x="4738680" y="6308640"/>
            <a:ext cx="1488960" cy="439920"/>
          </a:xfrm>
          <a:prstGeom prst="rect">
            <a:avLst/>
          </a:prstGeom>
          <a:noFill/>
          <a:ln w="6480">
            <a:solidFill>
              <a:srgbClr val="476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TextBox 952"/>
          <p:cNvSpPr/>
          <p:nvPr/>
        </p:nvSpPr>
        <p:spPr>
          <a:xfrm>
            <a:off x="4738680" y="6357960"/>
            <a:ext cx="1033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Future integration layer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al Model – System Topology 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348000" y="3500280"/>
            <a:ext cx="2016000" cy="649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19640" y="3141720"/>
            <a:ext cx="201600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95280" y="4218120"/>
            <a:ext cx="215640" cy="2156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2778120"/>
            <a:ext cx="47628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2633760"/>
            <a:ext cx="114300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miter/>
          </a:ln>
          <a:effectLst>
            <a:outerShdw dist="17819" dir="2700000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3425760"/>
            <a:ext cx="114300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miter/>
          </a:ln>
          <a:effectLst>
            <a:outerShdw dist="17819" dir="2700000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bile Devices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11280" y="2633760"/>
            <a:ext cx="1066680" cy="723600"/>
            <a:chOff x="2411280" y="2633760"/>
            <a:chExt cx="1066680" cy="723600"/>
          </a:xfrm>
        </p:grpSpPr>
        <p:grpSp>
          <p:nvGrpSpPr>
            <p:cNvPr id="202" name=""/>
            <p:cNvGrpSpPr/>
            <p:nvPr/>
          </p:nvGrpSpPr>
          <p:grpSpPr>
            <a:xfrm>
              <a:off x="2411280" y="2633760"/>
              <a:ext cx="1066680" cy="723600"/>
              <a:chOff x="2411280" y="2633760"/>
              <a:chExt cx="1066680" cy="723600"/>
            </a:xfrm>
          </p:grpSpPr>
          <p:sp>
            <p:nvSpPr>
              <p:cNvPr id="203" name=""/>
              <p:cNvSpPr/>
              <p:nvPr/>
            </p:nvSpPr>
            <p:spPr>
              <a:xfrm>
                <a:off x="2428920" y="2653200"/>
                <a:ext cx="1049040" cy="704160"/>
              </a:xfrm>
              <a:custGeom>
                <a:avLst/>
                <a:gdLst/>
                <a:ahLst/>
                <a:rect l="l" t="t" r="r" b="b"/>
                <a:pathLst>
                  <a:path w="711" h="649">
                    <a:moveTo>
                      <a:pt x="71" y="167"/>
                    </a:moveTo>
                    <a:lnTo>
                      <a:pt x="58" y="173"/>
                    </a:lnTo>
                    <a:lnTo>
                      <a:pt x="46" y="181"/>
                    </a:lnTo>
                    <a:lnTo>
                      <a:pt x="36" y="191"/>
                    </a:lnTo>
                    <a:lnTo>
                      <a:pt x="27" y="202"/>
                    </a:lnTo>
                    <a:lnTo>
                      <a:pt x="18" y="216"/>
                    </a:lnTo>
                    <a:lnTo>
                      <a:pt x="12" y="230"/>
                    </a:lnTo>
                    <a:lnTo>
                      <a:pt x="7" y="247"/>
                    </a:lnTo>
                    <a:lnTo>
                      <a:pt x="3" y="262"/>
                    </a:lnTo>
                    <a:lnTo>
                      <a:pt x="1" y="280"/>
                    </a:lnTo>
                    <a:lnTo>
                      <a:pt x="0" y="297"/>
                    </a:lnTo>
                    <a:lnTo>
                      <a:pt x="0" y="315"/>
                    </a:lnTo>
                    <a:lnTo>
                      <a:pt x="3" y="333"/>
                    </a:lnTo>
                    <a:lnTo>
                      <a:pt x="6" y="351"/>
                    </a:lnTo>
                    <a:lnTo>
                      <a:pt x="11" y="366"/>
                    </a:lnTo>
                    <a:lnTo>
                      <a:pt x="19" y="382"/>
                    </a:lnTo>
                    <a:lnTo>
                      <a:pt x="28" y="396"/>
                    </a:lnTo>
                    <a:lnTo>
                      <a:pt x="21" y="420"/>
                    </a:lnTo>
                    <a:lnTo>
                      <a:pt x="19" y="443"/>
                    </a:lnTo>
                    <a:lnTo>
                      <a:pt x="19" y="465"/>
                    </a:lnTo>
                    <a:lnTo>
                      <a:pt x="22" y="487"/>
                    </a:lnTo>
                    <a:lnTo>
                      <a:pt x="27" y="507"/>
                    </a:lnTo>
                    <a:lnTo>
                      <a:pt x="34" y="524"/>
                    </a:lnTo>
                    <a:lnTo>
                      <a:pt x="44" y="541"/>
                    </a:lnTo>
                    <a:lnTo>
                      <a:pt x="55" y="553"/>
                    </a:lnTo>
                    <a:lnTo>
                      <a:pt x="66" y="565"/>
                    </a:lnTo>
                    <a:lnTo>
                      <a:pt x="79" y="573"/>
                    </a:lnTo>
                    <a:lnTo>
                      <a:pt x="93" y="578"/>
                    </a:lnTo>
                    <a:lnTo>
                      <a:pt x="107" y="579"/>
                    </a:lnTo>
                    <a:lnTo>
                      <a:pt x="121" y="577"/>
                    </a:lnTo>
                    <a:lnTo>
                      <a:pt x="135" y="570"/>
                    </a:lnTo>
                    <a:lnTo>
                      <a:pt x="149" y="560"/>
                    </a:lnTo>
                    <a:lnTo>
                      <a:pt x="164" y="544"/>
                    </a:lnTo>
                    <a:lnTo>
                      <a:pt x="172" y="557"/>
                    </a:lnTo>
                    <a:lnTo>
                      <a:pt x="182" y="568"/>
                    </a:lnTo>
                    <a:lnTo>
                      <a:pt x="192" y="578"/>
                    </a:lnTo>
                    <a:lnTo>
                      <a:pt x="203" y="586"/>
                    </a:lnTo>
                    <a:lnTo>
                      <a:pt x="213" y="594"/>
                    </a:lnTo>
                    <a:lnTo>
                      <a:pt x="225" y="599"/>
                    </a:lnTo>
                    <a:lnTo>
                      <a:pt x="237" y="603"/>
                    </a:lnTo>
                    <a:lnTo>
                      <a:pt x="249" y="606"/>
                    </a:lnTo>
                    <a:lnTo>
                      <a:pt x="261" y="609"/>
                    </a:lnTo>
                    <a:lnTo>
                      <a:pt x="273" y="609"/>
                    </a:lnTo>
                    <a:lnTo>
                      <a:pt x="285" y="609"/>
                    </a:lnTo>
                    <a:lnTo>
                      <a:pt x="297" y="606"/>
                    </a:lnTo>
                    <a:lnTo>
                      <a:pt x="309" y="603"/>
                    </a:lnTo>
                    <a:lnTo>
                      <a:pt x="320" y="598"/>
                    </a:lnTo>
                    <a:lnTo>
                      <a:pt x="332" y="592"/>
                    </a:lnTo>
                    <a:lnTo>
                      <a:pt x="344" y="584"/>
                    </a:lnTo>
                    <a:lnTo>
                      <a:pt x="358" y="601"/>
                    </a:lnTo>
                    <a:lnTo>
                      <a:pt x="373" y="614"/>
                    </a:lnTo>
                    <a:lnTo>
                      <a:pt x="389" y="626"/>
                    </a:lnTo>
                    <a:lnTo>
                      <a:pt x="405" y="635"/>
                    </a:lnTo>
                    <a:lnTo>
                      <a:pt x="421" y="642"/>
                    </a:lnTo>
                    <a:lnTo>
                      <a:pt x="438" y="645"/>
                    </a:lnTo>
                    <a:lnTo>
                      <a:pt x="456" y="648"/>
                    </a:lnTo>
                    <a:lnTo>
                      <a:pt x="474" y="646"/>
                    </a:lnTo>
                    <a:lnTo>
                      <a:pt x="489" y="644"/>
                    </a:lnTo>
                    <a:lnTo>
                      <a:pt x="507" y="639"/>
                    </a:lnTo>
                    <a:lnTo>
                      <a:pt x="523" y="633"/>
                    </a:lnTo>
                    <a:lnTo>
                      <a:pt x="540" y="623"/>
                    </a:lnTo>
                    <a:lnTo>
                      <a:pt x="555" y="611"/>
                    </a:lnTo>
                    <a:lnTo>
                      <a:pt x="571" y="597"/>
                    </a:lnTo>
                    <a:lnTo>
                      <a:pt x="585" y="581"/>
                    </a:lnTo>
                    <a:lnTo>
                      <a:pt x="600" y="562"/>
                    </a:lnTo>
                    <a:lnTo>
                      <a:pt x="616" y="566"/>
                    </a:lnTo>
                    <a:lnTo>
                      <a:pt x="633" y="564"/>
                    </a:lnTo>
                    <a:lnTo>
                      <a:pt x="648" y="558"/>
                    </a:lnTo>
                    <a:lnTo>
                      <a:pt x="664" y="548"/>
                    </a:lnTo>
                    <a:lnTo>
                      <a:pt x="675" y="536"/>
                    </a:lnTo>
                    <a:lnTo>
                      <a:pt x="687" y="520"/>
                    </a:lnTo>
                    <a:lnTo>
                      <a:pt x="695" y="501"/>
                    </a:lnTo>
                    <a:lnTo>
                      <a:pt x="703" y="481"/>
                    </a:lnTo>
                    <a:lnTo>
                      <a:pt x="707" y="459"/>
                    </a:lnTo>
                    <a:lnTo>
                      <a:pt x="710" y="438"/>
                    </a:lnTo>
                    <a:lnTo>
                      <a:pt x="710" y="416"/>
                    </a:lnTo>
                    <a:lnTo>
                      <a:pt x="708" y="392"/>
                    </a:lnTo>
                    <a:lnTo>
                      <a:pt x="703" y="371"/>
                    </a:lnTo>
                    <a:lnTo>
                      <a:pt x="694" y="349"/>
                    </a:lnTo>
                    <a:lnTo>
                      <a:pt x="684" y="330"/>
                    </a:lnTo>
                    <a:lnTo>
                      <a:pt x="671" y="312"/>
                    </a:lnTo>
                    <a:lnTo>
                      <a:pt x="678" y="300"/>
                    </a:lnTo>
                    <a:lnTo>
                      <a:pt x="685" y="287"/>
                    </a:lnTo>
                    <a:lnTo>
                      <a:pt x="688" y="273"/>
                    </a:lnTo>
                    <a:lnTo>
                      <a:pt x="691" y="259"/>
                    </a:lnTo>
                    <a:lnTo>
                      <a:pt x="691" y="245"/>
                    </a:lnTo>
                    <a:lnTo>
                      <a:pt x="690" y="231"/>
                    </a:lnTo>
                    <a:lnTo>
                      <a:pt x="687" y="218"/>
                    </a:lnTo>
                    <a:lnTo>
                      <a:pt x="683" y="204"/>
                    </a:lnTo>
                    <a:lnTo>
                      <a:pt x="677" y="194"/>
                    </a:lnTo>
                    <a:lnTo>
                      <a:pt x="671" y="183"/>
                    </a:lnTo>
                    <a:lnTo>
                      <a:pt x="663" y="174"/>
                    </a:lnTo>
                    <a:lnTo>
                      <a:pt x="655" y="168"/>
                    </a:lnTo>
                    <a:lnTo>
                      <a:pt x="645" y="164"/>
                    </a:lnTo>
                    <a:lnTo>
                      <a:pt x="635" y="162"/>
                    </a:lnTo>
                    <a:lnTo>
                      <a:pt x="625" y="164"/>
                    </a:lnTo>
                    <a:lnTo>
                      <a:pt x="615" y="168"/>
                    </a:lnTo>
                    <a:lnTo>
                      <a:pt x="606" y="156"/>
                    </a:lnTo>
                    <a:lnTo>
                      <a:pt x="598" y="144"/>
                    </a:lnTo>
                    <a:lnTo>
                      <a:pt x="588" y="134"/>
                    </a:lnTo>
                    <a:lnTo>
                      <a:pt x="580" y="123"/>
                    </a:lnTo>
                    <a:lnTo>
                      <a:pt x="568" y="115"/>
                    </a:lnTo>
                    <a:lnTo>
                      <a:pt x="559" y="107"/>
                    </a:lnTo>
                    <a:lnTo>
                      <a:pt x="548" y="101"/>
                    </a:lnTo>
                    <a:lnTo>
                      <a:pt x="538" y="95"/>
                    </a:lnTo>
                    <a:lnTo>
                      <a:pt x="526" y="92"/>
                    </a:lnTo>
                    <a:lnTo>
                      <a:pt x="515" y="90"/>
                    </a:lnTo>
                    <a:lnTo>
                      <a:pt x="503" y="89"/>
                    </a:lnTo>
                    <a:lnTo>
                      <a:pt x="493" y="89"/>
                    </a:lnTo>
                    <a:lnTo>
                      <a:pt x="481" y="91"/>
                    </a:lnTo>
                    <a:lnTo>
                      <a:pt x="469" y="94"/>
                    </a:lnTo>
                    <a:lnTo>
                      <a:pt x="457" y="98"/>
                    </a:lnTo>
                    <a:lnTo>
                      <a:pt x="448" y="103"/>
                    </a:lnTo>
                    <a:lnTo>
                      <a:pt x="437" y="79"/>
                    </a:lnTo>
                    <a:lnTo>
                      <a:pt x="426" y="59"/>
                    </a:lnTo>
                    <a:lnTo>
                      <a:pt x="413" y="41"/>
                    </a:lnTo>
                    <a:lnTo>
                      <a:pt x="399" y="26"/>
                    </a:lnTo>
                    <a:lnTo>
                      <a:pt x="383" y="15"/>
                    </a:lnTo>
                    <a:lnTo>
                      <a:pt x="368" y="7"/>
                    </a:lnTo>
                    <a:lnTo>
                      <a:pt x="351" y="2"/>
                    </a:lnTo>
                    <a:lnTo>
                      <a:pt x="335" y="0"/>
                    </a:lnTo>
                    <a:lnTo>
                      <a:pt x="317" y="2"/>
                    </a:lnTo>
                    <a:lnTo>
                      <a:pt x="301" y="7"/>
                    </a:lnTo>
                    <a:lnTo>
                      <a:pt x="285" y="15"/>
                    </a:lnTo>
                    <a:lnTo>
                      <a:pt x="270" y="26"/>
                    </a:lnTo>
                    <a:lnTo>
                      <a:pt x="256" y="41"/>
                    </a:lnTo>
                    <a:lnTo>
                      <a:pt x="243" y="59"/>
                    </a:lnTo>
                    <a:lnTo>
                      <a:pt x="231" y="79"/>
                    </a:lnTo>
                    <a:lnTo>
                      <a:pt x="223" y="103"/>
                    </a:lnTo>
                    <a:lnTo>
                      <a:pt x="212" y="88"/>
                    </a:lnTo>
                    <a:lnTo>
                      <a:pt x="202" y="75"/>
                    </a:lnTo>
                    <a:lnTo>
                      <a:pt x="190" y="65"/>
                    </a:lnTo>
                    <a:lnTo>
                      <a:pt x="180" y="59"/>
                    </a:lnTo>
                    <a:lnTo>
                      <a:pt x="167" y="56"/>
                    </a:lnTo>
                    <a:lnTo>
                      <a:pt x="155" y="54"/>
                    </a:lnTo>
                    <a:lnTo>
                      <a:pt x="143" y="55"/>
                    </a:lnTo>
                    <a:lnTo>
                      <a:pt x="132" y="58"/>
                    </a:lnTo>
                    <a:lnTo>
                      <a:pt x="120" y="65"/>
                    </a:lnTo>
                    <a:lnTo>
                      <a:pt x="108" y="73"/>
                    </a:lnTo>
                    <a:lnTo>
                      <a:pt x="99" y="84"/>
                    </a:lnTo>
                    <a:lnTo>
                      <a:pt x="91" y="96"/>
                    </a:lnTo>
                    <a:lnTo>
                      <a:pt x="83" y="112"/>
                    </a:lnTo>
                    <a:lnTo>
                      <a:pt x="77" y="128"/>
                    </a:lnTo>
                    <a:lnTo>
                      <a:pt x="73" y="148"/>
                    </a:lnTo>
                    <a:lnTo>
                      <a:pt x="72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11280" y="2633760"/>
                <a:ext cx="1049040" cy="706320"/>
              </a:xfrm>
              <a:custGeom>
                <a:avLst/>
                <a:gdLst/>
                <a:ahLst/>
                <a:rect l="l" t="t" r="r" b="b"/>
                <a:pathLst>
                  <a:path w="711" h="651">
                    <a:moveTo>
                      <a:pt x="70" y="168"/>
                    </a:moveTo>
                    <a:lnTo>
                      <a:pt x="56" y="174"/>
                    </a:lnTo>
                    <a:lnTo>
                      <a:pt x="45" y="182"/>
                    </a:lnTo>
                    <a:lnTo>
                      <a:pt x="34" y="193"/>
                    </a:lnTo>
                    <a:lnTo>
                      <a:pt x="26" y="204"/>
                    </a:lnTo>
                    <a:lnTo>
                      <a:pt x="17" y="218"/>
                    </a:lnTo>
                    <a:lnTo>
                      <a:pt x="12" y="232"/>
                    </a:lnTo>
                    <a:lnTo>
                      <a:pt x="7" y="248"/>
                    </a:lnTo>
                    <a:lnTo>
                      <a:pt x="4" y="264"/>
                    </a:lnTo>
                    <a:lnTo>
                      <a:pt x="1" y="281"/>
                    </a:lnTo>
                    <a:lnTo>
                      <a:pt x="0" y="299"/>
                    </a:lnTo>
                    <a:lnTo>
                      <a:pt x="0" y="317"/>
                    </a:lnTo>
                    <a:lnTo>
                      <a:pt x="3" y="334"/>
                    </a:lnTo>
                    <a:lnTo>
                      <a:pt x="6" y="351"/>
                    </a:lnTo>
                    <a:lnTo>
                      <a:pt x="12" y="367"/>
                    </a:lnTo>
                    <a:lnTo>
                      <a:pt x="19" y="383"/>
                    </a:lnTo>
                    <a:lnTo>
                      <a:pt x="28" y="397"/>
                    </a:lnTo>
                    <a:lnTo>
                      <a:pt x="21" y="421"/>
                    </a:lnTo>
                    <a:lnTo>
                      <a:pt x="19" y="444"/>
                    </a:lnTo>
                    <a:lnTo>
                      <a:pt x="19" y="466"/>
                    </a:lnTo>
                    <a:lnTo>
                      <a:pt x="23" y="488"/>
                    </a:lnTo>
                    <a:lnTo>
                      <a:pt x="27" y="508"/>
                    </a:lnTo>
                    <a:lnTo>
                      <a:pt x="34" y="526"/>
                    </a:lnTo>
                    <a:lnTo>
                      <a:pt x="44" y="542"/>
                    </a:lnTo>
                    <a:lnTo>
                      <a:pt x="55" y="555"/>
                    </a:lnTo>
                    <a:lnTo>
                      <a:pt x="66" y="567"/>
                    </a:lnTo>
                    <a:lnTo>
                      <a:pt x="79" y="575"/>
                    </a:lnTo>
                    <a:lnTo>
                      <a:pt x="93" y="581"/>
                    </a:lnTo>
                    <a:lnTo>
                      <a:pt x="106" y="581"/>
                    </a:lnTo>
                    <a:lnTo>
                      <a:pt x="120" y="579"/>
                    </a:lnTo>
                    <a:lnTo>
                      <a:pt x="135" y="572"/>
                    </a:lnTo>
                    <a:lnTo>
                      <a:pt x="149" y="562"/>
                    </a:lnTo>
                    <a:lnTo>
                      <a:pt x="163" y="546"/>
                    </a:lnTo>
                    <a:lnTo>
                      <a:pt x="172" y="558"/>
                    </a:lnTo>
                    <a:lnTo>
                      <a:pt x="182" y="569"/>
                    </a:lnTo>
                    <a:lnTo>
                      <a:pt x="192" y="579"/>
                    </a:lnTo>
                    <a:lnTo>
                      <a:pt x="202" y="587"/>
                    </a:lnTo>
                    <a:lnTo>
                      <a:pt x="213" y="595"/>
                    </a:lnTo>
                    <a:lnTo>
                      <a:pt x="225" y="601"/>
                    </a:lnTo>
                    <a:lnTo>
                      <a:pt x="237" y="605"/>
                    </a:lnTo>
                    <a:lnTo>
                      <a:pt x="249" y="608"/>
                    </a:lnTo>
                    <a:lnTo>
                      <a:pt x="260" y="610"/>
                    </a:lnTo>
                    <a:lnTo>
                      <a:pt x="272" y="610"/>
                    </a:lnTo>
                    <a:lnTo>
                      <a:pt x="284" y="610"/>
                    </a:lnTo>
                    <a:lnTo>
                      <a:pt x="296" y="608"/>
                    </a:lnTo>
                    <a:lnTo>
                      <a:pt x="308" y="604"/>
                    </a:lnTo>
                    <a:lnTo>
                      <a:pt x="320" y="600"/>
                    </a:lnTo>
                    <a:lnTo>
                      <a:pt x="332" y="594"/>
                    </a:lnTo>
                    <a:lnTo>
                      <a:pt x="344" y="586"/>
                    </a:lnTo>
                    <a:lnTo>
                      <a:pt x="358" y="603"/>
                    </a:lnTo>
                    <a:lnTo>
                      <a:pt x="373" y="616"/>
                    </a:lnTo>
                    <a:lnTo>
                      <a:pt x="389" y="628"/>
                    </a:lnTo>
                    <a:lnTo>
                      <a:pt x="406" y="637"/>
                    </a:lnTo>
                    <a:lnTo>
                      <a:pt x="421" y="644"/>
                    </a:lnTo>
                    <a:lnTo>
                      <a:pt x="439" y="647"/>
                    </a:lnTo>
                    <a:lnTo>
                      <a:pt x="456" y="650"/>
                    </a:lnTo>
                    <a:lnTo>
                      <a:pt x="474" y="648"/>
                    </a:lnTo>
                    <a:lnTo>
                      <a:pt x="489" y="647"/>
                    </a:lnTo>
                    <a:lnTo>
                      <a:pt x="507" y="641"/>
                    </a:lnTo>
                    <a:lnTo>
                      <a:pt x="523" y="635"/>
                    </a:lnTo>
                    <a:lnTo>
                      <a:pt x="540" y="625"/>
                    </a:lnTo>
                    <a:lnTo>
                      <a:pt x="555" y="614"/>
                    </a:lnTo>
                    <a:lnTo>
                      <a:pt x="571" y="599"/>
                    </a:lnTo>
                    <a:lnTo>
                      <a:pt x="585" y="582"/>
                    </a:lnTo>
                    <a:lnTo>
                      <a:pt x="600" y="563"/>
                    </a:lnTo>
                    <a:lnTo>
                      <a:pt x="616" y="568"/>
                    </a:lnTo>
                    <a:lnTo>
                      <a:pt x="633" y="565"/>
                    </a:lnTo>
                    <a:lnTo>
                      <a:pt x="649" y="560"/>
                    </a:lnTo>
                    <a:lnTo>
                      <a:pt x="664" y="549"/>
                    </a:lnTo>
                    <a:lnTo>
                      <a:pt x="676" y="538"/>
                    </a:lnTo>
                    <a:lnTo>
                      <a:pt x="687" y="521"/>
                    </a:lnTo>
                    <a:lnTo>
                      <a:pt x="695" y="503"/>
                    </a:lnTo>
                    <a:lnTo>
                      <a:pt x="704" y="482"/>
                    </a:lnTo>
                    <a:lnTo>
                      <a:pt x="707" y="461"/>
                    </a:lnTo>
                    <a:lnTo>
                      <a:pt x="710" y="439"/>
                    </a:lnTo>
                    <a:lnTo>
                      <a:pt x="710" y="417"/>
                    </a:lnTo>
                    <a:lnTo>
                      <a:pt x="708" y="394"/>
                    </a:lnTo>
                    <a:lnTo>
                      <a:pt x="703" y="372"/>
                    </a:lnTo>
                    <a:lnTo>
                      <a:pt x="695" y="351"/>
                    </a:lnTo>
                    <a:lnTo>
                      <a:pt x="684" y="332"/>
                    </a:lnTo>
                    <a:lnTo>
                      <a:pt x="671" y="313"/>
                    </a:lnTo>
                    <a:lnTo>
                      <a:pt x="678" y="302"/>
                    </a:lnTo>
                    <a:lnTo>
                      <a:pt x="685" y="289"/>
                    </a:lnTo>
                    <a:lnTo>
                      <a:pt x="689" y="275"/>
                    </a:lnTo>
                    <a:lnTo>
                      <a:pt x="691" y="260"/>
                    </a:lnTo>
                    <a:lnTo>
                      <a:pt x="691" y="246"/>
                    </a:lnTo>
                    <a:lnTo>
                      <a:pt x="691" y="233"/>
                    </a:lnTo>
                    <a:lnTo>
                      <a:pt x="687" y="219"/>
                    </a:lnTo>
                    <a:lnTo>
                      <a:pt x="684" y="206"/>
                    </a:lnTo>
                    <a:lnTo>
                      <a:pt x="678" y="195"/>
                    </a:lnTo>
                    <a:lnTo>
                      <a:pt x="671" y="185"/>
                    </a:lnTo>
                    <a:lnTo>
                      <a:pt x="663" y="176"/>
                    </a:lnTo>
                    <a:lnTo>
                      <a:pt x="655" y="169"/>
                    </a:lnTo>
                    <a:lnTo>
                      <a:pt x="645" y="166"/>
                    </a:lnTo>
                    <a:lnTo>
                      <a:pt x="635" y="164"/>
                    </a:lnTo>
                    <a:lnTo>
                      <a:pt x="625" y="166"/>
                    </a:lnTo>
                    <a:lnTo>
                      <a:pt x="615" y="171"/>
                    </a:lnTo>
                    <a:lnTo>
                      <a:pt x="606" y="158"/>
                    </a:lnTo>
                    <a:lnTo>
                      <a:pt x="598" y="146"/>
                    </a:lnTo>
                    <a:lnTo>
                      <a:pt x="588" y="135"/>
                    </a:lnTo>
                    <a:lnTo>
                      <a:pt x="580" y="124"/>
                    </a:lnTo>
                    <a:lnTo>
                      <a:pt x="569" y="116"/>
                    </a:lnTo>
                    <a:lnTo>
                      <a:pt x="559" y="108"/>
                    </a:lnTo>
                    <a:lnTo>
                      <a:pt x="548" y="101"/>
                    </a:lnTo>
                    <a:lnTo>
                      <a:pt x="538" y="95"/>
                    </a:lnTo>
                    <a:lnTo>
                      <a:pt x="526" y="93"/>
                    </a:lnTo>
                    <a:lnTo>
                      <a:pt x="515" y="90"/>
                    </a:lnTo>
                    <a:lnTo>
                      <a:pt x="503" y="89"/>
                    </a:lnTo>
                    <a:lnTo>
                      <a:pt x="493" y="89"/>
                    </a:lnTo>
                    <a:lnTo>
                      <a:pt x="481" y="91"/>
                    </a:lnTo>
                    <a:lnTo>
                      <a:pt x="469" y="94"/>
                    </a:lnTo>
                    <a:lnTo>
                      <a:pt x="458" y="99"/>
                    </a:lnTo>
                    <a:lnTo>
                      <a:pt x="448" y="103"/>
                    </a:lnTo>
                    <a:lnTo>
                      <a:pt x="437" y="80"/>
                    </a:lnTo>
                    <a:lnTo>
                      <a:pt x="426" y="59"/>
                    </a:lnTo>
                    <a:lnTo>
                      <a:pt x="413" y="41"/>
                    </a:lnTo>
                    <a:lnTo>
                      <a:pt x="399" y="26"/>
                    </a:lnTo>
                    <a:lnTo>
                      <a:pt x="383" y="15"/>
                    </a:lnTo>
                    <a:lnTo>
                      <a:pt x="367" y="8"/>
                    </a:lnTo>
                    <a:lnTo>
                      <a:pt x="350" y="2"/>
                    </a:lnTo>
                    <a:lnTo>
                      <a:pt x="334" y="0"/>
                    </a:lnTo>
                    <a:lnTo>
                      <a:pt x="316" y="2"/>
                    </a:lnTo>
                    <a:lnTo>
                      <a:pt x="301" y="8"/>
                    </a:lnTo>
                    <a:lnTo>
                      <a:pt x="285" y="15"/>
                    </a:lnTo>
                    <a:lnTo>
                      <a:pt x="270" y="26"/>
                    </a:lnTo>
                    <a:lnTo>
                      <a:pt x="255" y="41"/>
                    </a:lnTo>
                    <a:lnTo>
                      <a:pt x="243" y="59"/>
                    </a:lnTo>
                    <a:lnTo>
                      <a:pt x="231" y="80"/>
                    </a:lnTo>
                    <a:lnTo>
                      <a:pt x="223" y="103"/>
                    </a:lnTo>
                    <a:lnTo>
                      <a:pt x="213" y="88"/>
                    </a:lnTo>
                    <a:lnTo>
                      <a:pt x="203" y="75"/>
                    </a:lnTo>
                    <a:lnTo>
                      <a:pt x="191" y="66"/>
                    </a:lnTo>
                    <a:lnTo>
                      <a:pt x="180" y="60"/>
                    </a:lnTo>
                    <a:lnTo>
                      <a:pt x="168" y="56"/>
                    </a:lnTo>
                    <a:lnTo>
                      <a:pt x="156" y="55"/>
                    </a:lnTo>
                    <a:lnTo>
                      <a:pt x="144" y="56"/>
                    </a:lnTo>
                    <a:lnTo>
                      <a:pt x="132" y="60"/>
                    </a:lnTo>
                    <a:lnTo>
                      <a:pt x="120" y="66"/>
                    </a:lnTo>
                    <a:lnTo>
                      <a:pt x="109" y="75"/>
                    </a:lnTo>
                    <a:lnTo>
                      <a:pt x="99" y="86"/>
                    </a:lnTo>
                    <a:lnTo>
                      <a:pt x="91" y="98"/>
                    </a:lnTo>
                    <a:lnTo>
                      <a:pt x="82" y="113"/>
                    </a:lnTo>
                    <a:lnTo>
                      <a:pt x="77" y="130"/>
                    </a:lnTo>
                    <a:lnTo>
                      <a:pt x="72" y="149"/>
                    </a:lnTo>
                    <a:lnTo>
                      <a:pt x="71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30000" y="2669400"/>
                <a:ext cx="1005120" cy="641160"/>
              </a:xfrm>
              <a:custGeom>
                <a:avLst/>
                <a:gdLst/>
                <a:ahLst/>
                <a:rect l="l" t="t" r="r" b="b"/>
                <a:pathLst>
                  <a:path w="681" h="591">
                    <a:moveTo>
                      <a:pt x="66" y="149"/>
                    </a:moveTo>
                    <a:lnTo>
                      <a:pt x="54" y="155"/>
                    </a:lnTo>
                    <a:lnTo>
                      <a:pt x="44" y="163"/>
                    </a:lnTo>
                    <a:lnTo>
                      <a:pt x="34" y="173"/>
                    </a:lnTo>
                    <a:lnTo>
                      <a:pt x="26" y="183"/>
                    </a:lnTo>
                    <a:lnTo>
                      <a:pt x="18" y="196"/>
                    </a:lnTo>
                    <a:lnTo>
                      <a:pt x="12" y="210"/>
                    </a:lnTo>
                    <a:lnTo>
                      <a:pt x="7" y="225"/>
                    </a:lnTo>
                    <a:lnTo>
                      <a:pt x="4" y="240"/>
                    </a:lnTo>
                    <a:lnTo>
                      <a:pt x="2" y="258"/>
                    </a:lnTo>
                    <a:lnTo>
                      <a:pt x="0" y="274"/>
                    </a:lnTo>
                    <a:lnTo>
                      <a:pt x="0" y="291"/>
                    </a:lnTo>
                    <a:lnTo>
                      <a:pt x="2" y="307"/>
                    </a:lnTo>
                    <a:lnTo>
                      <a:pt x="5" y="323"/>
                    </a:lnTo>
                    <a:lnTo>
                      <a:pt x="10" y="338"/>
                    </a:lnTo>
                    <a:lnTo>
                      <a:pt x="15" y="353"/>
                    </a:lnTo>
                    <a:lnTo>
                      <a:pt x="24" y="365"/>
                    </a:lnTo>
                    <a:lnTo>
                      <a:pt x="18" y="386"/>
                    </a:lnTo>
                    <a:lnTo>
                      <a:pt x="17" y="405"/>
                    </a:lnTo>
                    <a:lnTo>
                      <a:pt x="18" y="425"/>
                    </a:lnTo>
                    <a:lnTo>
                      <a:pt x="21" y="443"/>
                    </a:lnTo>
                    <a:lnTo>
                      <a:pt x="26" y="461"/>
                    </a:lnTo>
                    <a:lnTo>
                      <a:pt x="32" y="476"/>
                    </a:lnTo>
                    <a:lnTo>
                      <a:pt x="40" y="491"/>
                    </a:lnTo>
                    <a:lnTo>
                      <a:pt x="51" y="502"/>
                    </a:lnTo>
                    <a:lnTo>
                      <a:pt x="61" y="511"/>
                    </a:lnTo>
                    <a:lnTo>
                      <a:pt x="73" y="518"/>
                    </a:lnTo>
                    <a:lnTo>
                      <a:pt x="85" y="522"/>
                    </a:lnTo>
                    <a:lnTo>
                      <a:pt x="99" y="522"/>
                    </a:lnTo>
                    <a:lnTo>
                      <a:pt x="111" y="521"/>
                    </a:lnTo>
                    <a:lnTo>
                      <a:pt x="125" y="515"/>
                    </a:lnTo>
                    <a:lnTo>
                      <a:pt x="138" y="505"/>
                    </a:lnTo>
                    <a:lnTo>
                      <a:pt x="151" y="491"/>
                    </a:lnTo>
                    <a:lnTo>
                      <a:pt x="159" y="503"/>
                    </a:lnTo>
                    <a:lnTo>
                      <a:pt x="168" y="513"/>
                    </a:lnTo>
                    <a:lnTo>
                      <a:pt x="178" y="522"/>
                    </a:lnTo>
                    <a:lnTo>
                      <a:pt x="189" y="529"/>
                    </a:lnTo>
                    <a:lnTo>
                      <a:pt x="200" y="536"/>
                    </a:lnTo>
                    <a:lnTo>
                      <a:pt x="212" y="542"/>
                    </a:lnTo>
                    <a:lnTo>
                      <a:pt x="224" y="546"/>
                    </a:lnTo>
                    <a:lnTo>
                      <a:pt x="237" y="549"/>
                    </a:lnTo>
                    <a:lnTo>
                      <a:pt x="249" y="552"/>
                    </a:lnTo>
                    <a:lnTo>
                      <a:pt x="261" y="554"/>
                    </a:lnTo>
                    <a:lnTo>
                      <a:pt x="272" y="554"/>
                    </a:lnTo>
                    <a:lnTo>
                      <a:pt x="286" y="552"/>
                    </a:lnTo>
                    <a:lnTo>
                      <a:pt x="297" y="550"/>
                    </a:lnTo>
                    <a:lnTo>
                      <a:pt x="309" y="546"/>
                    </a:lnTo>
                    <a:lnTo>
                      <a:pt x="320" y="541"/>
                    </a:lnTo>
                    <a:lnTo>
                      <a:pt x="332" y="535"/>
                    </a:lnTo>
                    <a:lnTo>
                      <a:pt x="344" y="549"/>
                    </a:lnTo>
                    <a:lnTo>
                      <a:pt x="358" y="561"/>
                    </a:lnTo>
                    <a:lnTo>
                      <a:pt x="374" y="571"/>
                    </a:lnTo>
                    <a:lnTo>
                      <a:pt x="389" y="579"/>
                    </a:lnTo>
                    <a:lnTo>
                      <a:pt x="405" y="585"/>
                    </a:lnTo>
                    <a:lnTo>
                      <a:pt x="422" y="588"/>
                    </a:lnTo>
                    <a:lnTo>
                      <a:pt x="440" y="590"/>
                    </a:lnTo>
                    <a:lnTo>
                      <a:pt x="457" y="588"/>
                    </a:lnTo>
                    <a:lnTo>
                      <a:pt x="473" y="587"/>
                    </a:lnTo>
                    <a:lnTo>
                      <a:pt x="490" y="582"/>
                    </a:lnTo>
                    <a:lnTo>
                      <a:pt x="506" y="576"/>
                    </a:lnTo>
                    <a:lnTo>
                      <a:pt x="523" y="567"/>
                    </a:lnTo>
                    <a:lnTo>
                      <a:pt x="537" y="557"/>
                    </a:lnTo>
                    <a:lnTo>
                      <a:pt x="552" y="545"/>
                    </a:lnTo>
                    <a:lnTo>
                      <a:pt x="566" y="530"/>
                    </a:lnTo>
                    <a:lnTo>
                      <a:pt x="579" y="514"/>
                    </a:lnTo>
                    <a:lnTo>
                      <a:pt x="594" y="516"/>
                    </a:lnTo>
                    <a:lnTo>
                      <a:pt x="610" y="515"/>
                    </a:lnTo>
                    <a:lnTo>
                      <a:pt x="624" y="509"/>
                    </a:lnTo>
                    <a:lnTo>
                      <a:pt x="637" y="499"/>
                    </a:lnTo>
                    <a:lnTo>
                      <a:pt x="647" y="487"/>
                    </a:lnTo>
                    <a:lnTo>
                      <a:pt x="658" y="471"/>
                    </a:lnTo>
                    <a:lnTo>
                      <a:pt x="666" y="454"/>
                    </a:lnTo>
                    <a:lnTo>
                      <a:pt x="673" y="434"/>
                    </a:lnTo>
                    <a:lnTo>
                      <a:pt x="677" y="414"/>
                    </a:lnTo>
                    <a:lnTo>
                      <a:pt x="679" y="393"/>
                    </a:lnTo>
                    <a:lnTo>
                      <a:pt x="680" y="372"/>
                    </a:lnTo>
                    <a:lnTo>
                      <a:pt x="678" y="351"/>
                    </a:lnTo>
                    <a:lnTo>
                      <a:pt x="674" y="331"/>
                    </a:lnTo>
                    <a:lnTo>
                      <a:pt x="667" y="311"/>
                    </a:lnTo>
                    <a:lnTo>
                      <a:pt x="658" y="294"/>
                    </a:lnTo>
                    <a:lnTo>
                      <a:pt x="646" y="278"/>
                    </a:lnTo>
                    <a:lnTo>
                      <a:pt x="653" y="268"/>
                    </a:lnTo>
                    <a:lnTo>
                      <a:pt x="658" y="257"/>
                    </a:lnTo>
                    <a:lnTo>
                      <a:pt x="661" y="245"/>
                    </a:lnTo>
                    <a:lnTo>
                      <a:pt x="664" y="232"/>
                    </a:lnTo>
                    <a:lnTo>
                      <a:pt x="664" y="220"/>
                    </a:lnTo>
                    <a:lnTo>
                      <a:pt x="663" y="208"/>
                    </a:lnTo>
                    <a:lnTo>
                      <a:pt x="660" y="196"/>
                    </a:lnTo>
                    <a:lnTo>
                      <a:pt x="658" y="185"/>
                    </a:lnTo>
                    <a:lnTo>
                      <a:pt x="651" y="176"/>
                    </a:lnTo>
                    <a:lnTo>
                      <a:pt x="645" y="167"/>
                    </a:lnTo>
                    <a:lnTo>
                      <a:pt x="638" y="160"/>
                    </a:lnTo>
                    <a:lnTo>
                      <a:pt x="631" y="153"/>
                    </a:lnTo>
                    <a:lnTo>
                      <a:pt x="622" y="150"/>
                    </a:lnTo>
                    <a:lnTo>
                      <a:pt x="613" y="149"/>
                    </a:lnTo>
                    <a:lnTo>
                      <a:pt x="603" y="150"/>
                    </a:lnTo>
                    <a:lnTo>
                      <a:pt x="594" y="154"/>
                    </a:lnTo>
                    <a:lnTo>
                      <a:pt x="587" y="144"/>
                    </a:lnTo>
                    <a:lnTo>
                      <a:pt x="579" y="133"/>
                    </a:lnTo>
                    <a:lnTo>
                      <a:pt x="569" y="123"/>
                    </a:lnTo>
                    <a:lnTo>
                      <a:pt x="560" y="113"/>
                    </a:lnTo>
                    <a:lnTo>
                      <a:pt x="550" y="105"/>
                    </a:lnTo>
                    <a:lnTo>
                      <a:pt x="540" y="98"/>
                    </a:lnTo>
                    <a:lnTo>
                      <a:pt x="528" y="92"/>
                    </a:lnTo>
                    <a:lnTo>
                      <a:pt x="518" y="86"/>
                    </a:lnTo>
                    <a:lnTo>
                      <a:pt x="506" y="83"/>
                    </a:lnTo>
                    <a:lnTo>
                      <a:pt x="494" y="80"/>
                    </a:lnTo>
                    <a:lnTo>
                      <a:pt x="482" y="79"/>
                    </a:lnTo>
                    <a:lnTo>
                      <a:pt x="473" y="77"/>
                    </a:lnTo>
                    <a:lnTo>
                      <a:pt x="461" y="79"/>
                    </a:lnTo>
                    <a:lnTo>
                      <a:pt x="451" y="81"/>
                    </a:lnTo>
                    <a:lnTo>
                      <a:pt x="440" y="84"/>
                    </a:lnTo>
                    <a:lnTo>
                      <a:pt x="430" y="88"/>
                    </a:lnTo>
                    <a:lnTo>
                      <a:pt x="420" y="68"/>
                    </a:lnTo>
                    <a:lnTo>
                      <a:pt x="410" y="50"/>
                    </a:lnTo>
                    <a:lnTo>
                      <a:pt x="396" y="35"/>
                    </a:lnTo>
                    <a:lnTo>
                      <a:pt x="383" y="22"/>
                    </a:lnTo>
                    <a:lnTo>
                      <a:pt x="368" y="13"/>
                    </a:lnTo>
                    <a:lnTo>
                      <a:pt x="352" y="6"/>
                    </a:lnTo>
                    <a:lnTo>
                      <a:pt x="336" y="2"/>
                    </a:lnTo>
                    <a:lnTo>
                      <a:pt x="321" y="0"/>
                    </a:lnTo>
                    <a:lnTo>
                      <a:pt x="303" y="2"/>
                    </a:lnTo>
                    <a:lnTo>
                      <a:pt x="288" y="6"/>
                    </a:lnTo>
                    <a:lnTo>
                      <a:pt x="272" y="14"/>
                    </a:lnTo>
                    <a:lnTo>
                      <a:pt x="257" y="23"/>
                    </a:lnTo>
                    <a:lnTo>
                      <a:pt x="243" y="36"/>
                    </a:lnTo>
                    <a:lnTo>
                      <a:pt x="231" y="52"/>
                    </a:lnTo>
                    <a:lnTo>
                      <a:pt x="220" y="70"/>
                    </a:lnTo>
                    <a:lnTo>
                      <a:pt x="212" y="91"/>
                    </a:lnTo>
                    <a:lnTo>
                      <a:pt x="203" y="78"/>
                    </a:lnTo>
                    <a:lnTo>
                      <a:pt x="193" y="67"/>
                    </a:lnTo>
                    <a:lnTo>
                      <a:pt x="182" y="58"/>
                    </a:lnTo>
                    <a:lnTo>
                      <a:pt x="172" y="52"/>
                    </a:lnTo>
                    <a:lnTo>
                      <a:pt x="160" y="48"/>
                    </a:lnTo>
                    <a:lnTo>
                      <a:pt x="148" y="47"/>
                    </a:lnTo>
                    <a:lnTo>
                      <a:pt x="137" y="48"/>
                    </a:lnTo>
                    <a:lnTo>
                      <a:pt x="126" y="49"/>
                    </a:lnTo>
                    <a:lnTo>
                      <a:pt x="114" y="54"/>
                    </a:lnTo>
                    <a:lnTo>
                      <a:pt x="104" y="61"/>
                    </a:lnTo>
                    <a:lnTo>
                      <a:pt x="94" y="70"/>
                    </a:lnTo>
                    <a:lnTo>
                      <a:pt x="86" y="80"/>
                    </a:lnTo>
                    <a:lnTo>
                      <a:pt x="78" y="93"/>
                    </a:lnTo>
                    <a:lnTo>
                      <a:pt x="73" y="107"/>
                    </a:lnTo>
                    <a:lnTo>
                      <a:pt x="69" y="123"/>
                    </a:lnTo>
                    <a:lnTo>
                      <a:pt x="68" y="140"/>
                    </a:lnTo>
                    <a:lnTo>
                      <a:pt x="66" y="141"/>
                    </a:lnTo>
                    <a:lnTo>
                      <a:pt x="66" y="141"/>
                    </a:lnTo>
                    <a:lnTo>
                      <a:pt x="66" y="141"/>
                    </a:lnTo>
                    <a:lnTo>
                      <a:pt x="66" y="141"/>
                    </a:lnTo>
                    <a:lnTo>
                      <a:pt x="66" y="144"/>
                    </a:lnTo>
                    <a:lnTo>
                      <a:pt x="66" y="144"/>
                    </a:lnTo>
                    <a:lnTo>
                      <a:pt x="66" y="145"/>
                    </a:lnTo>
                    <a:lnTo>
                      <a:pt x="66" y="145"/>
                    </a:lnTo>
                    <a:lnTo>
                      <a:pt x="66" y="147"/>
                    </a:lnTo>
                    <a:lnTo>
                      <a:pt x="66" y="147"/>
                    </a:lnTo>
                    <a:lnTo>
                      <a:pt x="66" y="148"/>
                    </a:lnTo>
                    <a:lnTo>
                      <a:pt x="66" y="148"/>
                    </a:lnTo>
                    <a:lnTo>
                      <a:pt x="66" y="149"/>
                    </a:lnTo>
                    <a:lnTo>
                      <a:pt x="66" y="149"/>
                    </a:lnTo>
                    <a:lnTo>
                      <a:pt x="66" y="149"/>
                    </a:lnTo>
                    <a:lnTo>
                      <a:pt x="66" y="149"/>
                    </a:lnTo>
                    <a:lnTo>
                      <a:pt x="66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523240" y="2867040"/>
              <a:ext cx="783720" cy="276840"/>
              <a:chOff x="2523240" y="2867040"/>
              <a:chExt cx="783720" cy="276840"/>
            </a:xfrm>
          </p:grpSpPr>
          <p:sp>
            <p:nvSpPr>
              <p:cNvPr id="207" name=""/>
              <p:cNvSpPr/>
              <p:nvPr/>
            </p:nvSpPr>
            <p:spPr>
              <a:xfrm>
                <a:off x="2523240" y="2900520"/>
                <a:ext cx="783720" cy="203760"/>
              </a:xfrm>
              <a:custGeom>
                <a:avLst/>
                <a:gdLst/>
                <a:ahLst/>
                <a:rect l="l" t="t" r="r" b="b"/>
                <a:pathLst>
                  <a:path w="531" h="188">
                    <a:moveTo>
                      <a:pt x="0" y="187"/>
                    </a:moveTo>
                    <a:lnTo>
                      <a:pt x="530" y="187"/>
                    </a:lnTo>
                    <a:lnTo>
                      <a:pt x="530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0" y="18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86600" y="2867040"/>
                <a:ext cx="6843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TML/XML</a:t>
                </a:r>
                <a:endParaRPr b="0" lang="en-US" sz="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1042920" y="4289400"/>
            <a:ext cx="114300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miter/>
          </a:ln>
          <a:effectLst>
            <a:outerShdw dist="17819" dir="2700000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ap Clien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340000" y="3857760"/>
            <a:ext cx="1066320" cy="723240"/>
            <a:chOff x="2340000" y="3857760"/>
            <a:chExt cx="1066320" cy="723240"/>
          </a:xfrm>
        </p:grpSpPr>
        <p:grpSp>
          <p:nvGrpSpPr>
            <p:cNvPr id="211" name=""/>
            <p:cNvGrpSpPr/>
            <p:nvPr/>
          </p:nvGrpSpPr>
          <p:grpSpPr>
            <a:xfrm>
              <a:off x="2340000" y="3857760"/>
              <a:ext cx="1066320" cy="723240"/>
              <a:chOff x="2340000" y="3857760"/>
              <a:chExt cx="1066320" cy="723240"/>
            </a:xfrm>
          </p:grpSpPr>
          <p:sp>
            <p:nvSpPr>
              <p:cNvPr id="212" name=""/>
              <p:cNvSpPr/>
              <p:nvPr/>
            </p:nvSpPr>
            <p:spPr>
              <a:xfrm>
                <a:off x="2357640" y="3877200"/>
                <a:ext cx="1048680" cy="703800"/>
              </a:xfrm>
              <a:custGeom>
                <a:avLst/>
                <a:gdLst/>
                <a:ahLst/>
                <a:rect l="l" t="t" r="r" b="b"/>
                <a:pathLst>
                  <a:path w="711" h="649">
                    <a:moveTo>
                      <a:pt x="71" y="167"/>
                    </a:moveTo>
                    <a:lnTo>
                      <a:pt x="58" y="173"/>
                    </a:lnTo>
                    <a:lnTo>
                      <a:pt x="46" y="181"/>
                    </a:lnTo>
                    <a:lnTo>
                      <a:pt x="36" y="191"/>
                    </a:lnTo>
                    <a:lnTo>
                      <a:pt x="27" y="202"/>
                    </a:lnTo>
                    <a:lnTo>
                      <a:pt x="18" y="216"/>
                    </a:lnTo>
                    <a:lnTo>
                      <a:pt x="12" y="230"/>
                    </a:lnTo>
                    <a:lnTo>
                      <a:pt x="7" y="247"/>
                    </a:lnTo>
                    <a:lnTo>
                      <a:pt x="3" y="262"/>
                    </a:lnTo>
                    <a:lnTo>
                      <a:pt x="1" y="280"/>
                    </a:lnTo>
                    <a:lnTo>
                      <a:pt x="0" y="297"/>
                    </a:lnTo>
                    <a:lnTo>
                      <a:pt x="0" y="315"/>
                    </a:lnTo>
                    <a:lnTo>
                      <a:pt x="3" y="333"/>
                    </a:lnTo>
                    <a:lnTo>
                      <a:pt x="6" y="351"/>
                    </a:lnTo>
                    <a:lnTo>
                      <a:pt x="11" y="366"/>
                    </a:lnTo>
                    <a:lnTo>
                      <a:pt x="19" y="382"/>
                    </a:lnTo>
                    <a:lnTo>
                      <a:pt x="28" y="396"/>
                    </a:lnTo>
                    <a:lnTo>
                      <a:pt x="21" y="420"/>
                    </a:lnTo>
                    <a:lnTo>
                      <a:pt x="19" y="443"/>
                    </a:lnTo>
                    <a:lnTo>
                      <a:pt x="19" y="465"/>
                    </a:lnTo>
                    <a:lnTo>
                      <a:pt x="22" y="487"/>
                    </a:lnTo>
                    <a:lnTo>
                      <a:pt x="27" y="507"/>
                    </a:lnTo>
                    <a:lnTo>
                      <a:pt x="34" y="524"/>
                    </a:lnTo>
                    <a:lnTo>
                      <a:pt x="44" y="541"/>
                    </a:lnTo>
                    <a:lnTo>
                      <a:pt x="55" y="553"/>
                    </a:lnTo>
                    <a:lnTo>
                      <a:pt x="66" y="565"/>
                    </a:lnTo>
                    <a:lnTo>
                      <a:pt x="79" y="573"/>
                    </a:lnTo>
                    <a:lnTo>
                      <a:pt x="93" y="578"/>
                    </a:lnTo>
                    <a:lnTo>
                      <a:pt x="107" y="579"/>
                    </a:lnTo>
                    <a:lnTo>
                      <a:pt x="121" y="577"/>
                    </a:lnTo>
                    <a:lnTo>
                      <a:pt x="135" y="570"/>
                    </a:lnTo>
                    <a:lnTo>
                      <a:pt x="149" y="560"/>
                    </a:lnTo>
                    <a:lnTo>
                      <a:pt x="164" y="544"/>
                    </a:lnTo>
                    <a:lnTo>
                      <a:pt x="172" y="557"/>
                    </a:lnTo>
                    <a:lnTo>
                      <a:pt x="182" y="568"/>
                    </a:lnTo>
                    <a:lnTo>
                      <a:pt x="192" y="578"/>
                    </a:lnTo>
                    <a:lnTo>
                      <a:pt x="203" y="586"/>
                    </a:lnTo>
                    <a:lnTo>
                      <a:pt x="213" y="594"/>
                    </a:lnTo>
                    <a:lnTo>
                      <a:pt x="225" y="599"/>
                    </a:lnTo>
                    <a:lnTo>
                      <a:pt x="237" y="603"/>
                    </a:lnTo>
                    <a:lnTo>
                      <a:pt x="249" y="606"/>
                    </a:lnTo>
                    <a:lnTo>
                      <a:pt x="261" y="609"/>
                    </a:lnTo>
                    <a:lnTo>
                      <a:pt x="273" y="609"/>
                    </a:lnTo>
                    <a:lnTo>
                      <a:pt x="285" y="609"/>
                    </a:lnTo>
                    <a:lnTo>
                      <a:pt x="297" y="606"/>
                    </a:lnTo>
                    <a:lnTo>
                      <a:pt x="309" y="603"/>
                    </a:lnTo>
                    <a:lnTo>
                      <a:pt x="320" y="598"/>
                    </a:lnTo>
                    <a:lnTo>
                      <a:pt x="332" y="592"/>
                    </a:lnTo>
                    <a:lnTo>
                      <a:pt x="344" y="584"/>
                    </a:lnTo>
                    <a:lnTo>
                      <a:pt x="358" y="601"/>
                    </a:lnTo>
                    <a:lnTo>
                      <a:pt x="373" y="614"/>
                    </a:lnTo>
                    <a:lnTo>
                      <a:pt x="389" y="626"/>
                    </a:lnTo>
                    <a:lnTo>
                      <a:pt x="405" y="635"/>
                    </a:lnTo>
                    <a:lnTo>
                      <a:pt x="421" y="642"/>
                    </a:lnTo>
                    <a:lnTo>
                      <a:pt x="438" y="645"/>
                    </a:lnTo>
                    <a:lnTo>
                      <a:pt x="456" y="648"/>
                    </a:lnTo>
                    <a:lnTo>
                      <a:pt x="474" y="646"/>
                    </a:lnTo>
                    <a:lnTo>
                      <a:pt x="489" y="644"/>
                    </a:lnTo>
                    <a:lnTo>
                      <a:pt x="507" y="639"/>
                    </a:lnTo>
                    <a:lnTo>
                      <a:pt x="523" y="633"/>
                    </a:lnTo>
                    <a:lnTo>
                      <a:pt x="540" y="623"/>
                    </a:lnTo>
                    <a:lnTo>
                      <a:pt x="555" y="611"/>
                    </a:lnTo>
                    <a:lnTo>
                      <a:pt x="571" y="597"/>
                    </a:lnTo>
                    <a:lnTo>
                      <a:pt x="585" y="581"/>
                    </a:lnTo>
                    <a:lnTo>
                      <a:pt x="600" y="562"/>
                    </a:lnTo>
                    <a:lnTo>
                      <a:pt x="616" y="566"/>
                    </a:lnTo>
                    <a:lnTo>
                      <a:pt x="633" y="564"/>
                    </a:lnTo>
                    <a:lnTo>
                      <a:pt x="648" y="558"/>
                    </a:lnTo>
                    <a:lnTo>
                      <a:pt x="664" y="548"/>
                    </a:lnTo>
                    <a:lnTo>
                      <a:pt x="675" y="536"/>
                    </a:lnTo>
                    <a:lnTo>
                      <a:pt x="687" y="520"/>
                    </a:lnTo>
                    <a:lnTo>
                      <a:pt x="695" y="501"/>
                    </a:lnTo>
                    <a:lnTo>
                      <a:pt x="703" y="481"/>
                    </a:lnTo>
                    <a:lnTo>
                      <a:pt x="707" y="459"/>
                    </a:lnTo>
                    <a:lnTo>
                      <a:pt x="710" y="438"/>
                    </a:lnTo>
                    <a:lnTo>
                      <a:pt x="710" y="416"/>
                    </a:lnTo>
                    <a:lnTo>
                      <a:pt x="708" y="392"/>
                    </a:lnTo>
                    <a:lnTo>
                      <a:pt x="703" y="371"/>
                    </a:lnTo>
                    <a:lnTo>
                      <a:pt x="694" y="349"/>
                    </a:lnTo>
                    <a:lnTo>
                      <a:pt x="684" y="330"/>
                    </a:lnTo>
                    <a:lnTo>
                      <a:pt x="671" y="312"/>
                    </a:lnTo>
                    <a:lnTo>
                      <a:pt x="678" y="300"/>
                    </a:lnTo>
                    <a:lnTo>
                      <a:pt x="685" y="287"/>
                    </a:lnTo>
                    <a:lnTo>
                      <a:pt x="688" y="273"/>
                    </a:lnTo>
                    <a:lnTo>
                      <a:pt x="691" y="259"/>
                    </a:lnTo>
                    <a:lnTo>
                      <a:pt x="691" y="245"/>
                    </a:lnTo>
                    <a:lnTo>
                      <a:pt x="690" y="231"/>
                    </a:lnTo>
                    <a:lnTo>
                      <a:pt x="687" y="218"/>
                    </a:lnTo>
                    <a:lnTo>
                      <a:pt x="683" y="204"/>
                    </a:lnTo>
                    <a:lnTo>
                      <a:pt x="677" y="194"/>
                    </a:lnTo>
                    <a:lnTo>
                      <a:pt x="671" y="183"/>
                    </a:lnTo>
                    <a:lnTo>
                      <a:pt x="663" y="174"/>
                    </a:lnTo>
                    <a:lnTo>
                      <a:pt x="655" y="168"/>
                    </a:lnTo>
                    <a:lnTo>
                      <a:pt x="645" y="164"/>
                    </a:lnTo>
                    <a:lnTo>
                      <a:pt x="635" y="162"/>
                    </a:lnTo>
                    <a:lnTo>
                      <a:pt x="625" y="164"/>
                    </a:lnTo>
                    <a:lnTo>
                      <a:pt x="615" y="168"/>
                    </a:lnTo>
                    <a:lnTo>
                      <a:pt x="606" y="156"/>
                    </a:lnTo>
                    <a:lnTo>
                      <a:pt x="598" y="144"/>
                    </a:lnTo>
                    <a:lnTo>
                      <a:pt x="588" y="134"/>
                    </a:lnTo>
                    <a:lnTo>
                      <a:pt x="580" y="123"/>
                    </a:lnTo>
                    <a:lnTo>
                      <a:pt x="568" y="115"/>
                    </a:lnTo>
                    <a:lnTo>
                      <a:pt x="559" y="107"/>
                    </a:lnTo>
                    <a:lnTo>
                      <a:pt x="548" y="101"/>
                    </a:lnTo>
                    <a:lnTo>
                      <a:pt x="538" y="95"/>
                    </a:lnTo>
                    <a:lnTo>
                      <a:pt x="526" y="92"/>
                    </a:lnTo>
                    <a:lnTo>
                      <a:pt x="515" y="90"/>
                    </a:lnTo>
                    <a:lnTo>
                      <a:pt x="503" y="89"/>
                    </a:lnTo>
                    <a:lnTo>
                      <a:pt x="493" y="89"/>
                    </a:lnTo>
                    <a:lnTo>
                      <a:pt x="481" y="91"/>
                    </a:lnTo>
                    <a:lnTo>
                      <a:pt x="469" y="94"/>
                    </a:lnTo>
                    <a:lnTo>
                      <a:pt x="457" y="98"/>
                    </a:lnTo>
                    <a:lnTo>
                      <a:pt x="448" y="103"/>
                    </a:lnTo>
                    <a:lnTo>
                      <a:pt x="437" y="79"/>
                    </a:lnTo>
                    <a:lnTo>
                      <a:pt x="426" y="59"/>
                    </a:lnTo>
                    <a:lnTo>
                      <a:pt x="413" y="41"/>
                    </a:lnTo>
                    <a:lnTo>
                      <a:pt x="399" y="26"/>
                    </a:lnTo>
                    <a:lnTo>
                      <a:pt x="383" y="15"/>
                    </a:lnTo>
                    <a:lnTo>
                      <a:pt x="368" y="7"/>
                    </a:lnTo>
                    <a:lnTo>
                      <a:pt x="351" y="2"/>
                    </a:lnTo>
                    <a:lnTo>
                      <a:pt x="335" y="0"/>
                    </a:lnTo>
                    <a:lnTo>
                      <a:pt x="317" y="2"/>
                    </a:lnTo>
                    <a:lnTo>
                      <a:pt x="301" y="7"/>
                    </a:lnTo>
                    <a:lnTo>
                      <a:pt x="285" y="15"/>
                    </a:lnTo>
                    <a:lnTo>
                      <a:pt x="270" y="26"/>
                    </a:lnTo>
                    <a:lnTo>
                      <a:pt x="256" y="41"/>
                    </a:lnTo>
                    <a:lnTo>
                      <a:pt x="243" y="59"/>
                    </a:lnTo>
                    <a:lnTo>
                      <a:pt x="231" y="79"/>
                    </a:lnTo>
                    <a:lnTo>
                      <a:pt x="223" y="103"/>
                    </a:lnTo>
                    <a:lnTo>
                      <a:pt x="212" y="88"/>
                    </a:lnTo>
                    <a:lnTo>
                      <a:pt x="202" y="75"/>
                    </a:lnTo>
                    <a:lnTo>
                      <a:pt x="190" y="65"/>
                    </a:lnTo>
                    <a:lnTo>
                      <a:pt x="180" y="59"/>
                    </a:lnTo>
                    <a:lnTo>
                      <a:pt x="167" y="56"/>
                    </a:lnTo>
                    <a:lnTo>
                      <a:pt x="155" y="54"/>
                    </a:lnTo>
                    <a:lnTo>
                      <a:pt x="143" y="55"/>
                    </a:lnTo>
                    <a:lnTo>
                      <a:pt x="132" y="58"/>
                    </a:lnTo>
                    <a:lnTo>
                      <a:pt x="120" y="65"/>
                    </a:lnTo>
                    <a:lnTo>
                      <a:pt x="108" y="73"/>
                    </a:lnTo>
                    <a:lnTo>
                      <a:pt x="99" y="84"/>
                    </a:lnTo>
                    <a:lnTo>
                      <a:pt x="91" y="96"/>
                    </a:lnTo>
                    <a:lnTo>
                      <a:pt x="83" y="112"/>
                    </a:lnTo>
                    <a:lnTo>
                      <a:pt x="77" y="128"/>
                    </a:lnTo>
                    <a:lnTo>
                      <a:pt x="73" y="148"/>
                    </a:lnTo>
                    <a:lnTo>
                      <a:pt x="72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  <a:lnTo>
                      <a:pt x="71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40000" y="3857760"/>
                <a:ext cx="1048680" cy="705960"/>
              </a:xfrm>
              <a:custGeom>
                <a:avLst/>
                <a:gdLst/>
                <a:ahLst/>
                <a:rect l="l" t="t" r="r" b="b"/>
                <a:pathLst>
                  <a:path w="711" h="651">
                    <a:moveTo>
                      <a:pt x="70" y="168"/>
                    </a:moveTo>
                    <a:lnTo>
                      <a:pt x="56" y="174"/>
                    </a:lnTo>
                    <a:lnTo>
                      <a:pt x="45" y="182"/>
                    </a:lnTo>
                    <a:lnTo>
                      <a:pt x="34" y="193"/>
                    </a:lnTo>
                    <a:lnTo>
                      <a:pt x="26" y="204"/>
                    </a:lnTo>
                    <a:lnTo>
                      <a:pt x="17" y="218"/>
                    </a:lnTo>
                    <a:lnTo>
                      <a:pt x="12" y="232"/>
                    </a:lnTo>
                    <a:lnTo>
                      <a:pt x="7" y="248"/>
                    </a:lnTo>
                    <a:lnTo>
                      <a:pt x="4" y="264"/>
                    </a:lnTo>
                    <a:lnTo>
                      <a:pt x="1" y="281"/>
                    </a:lnTo>
                    <a:lnTo>
                      <a:pt x="0" y="299"/>
                    </a:lnTo>
                    <a:lnTo>
                      <a:pt x="0" y="317"/>
                    </a:lnTo>
                    <a:lnTo>
                      <a:pt x="3" y="334"/>
                    </a:lnTo>
                    <a:lnTo>
                      <a:pt x="6" y="351"/>
                    </a:lnTo>
                    <a:lnTo>
                      <a:pt x="12" y="367"/>
                    </a:lnTo>
                    <a:lnTo>
                      <a:pt x="19" y="383"/>
                    </a:lnTo>
                    <a:lnTo>
                      <a:pt x="28" y="397"/>
                    </a:lnTo>
                    <a:lnTo>
                      <a:pt x="21" y="421"/>
                    </a:lnTo>
                    <a:lnTo>
                      <a:pt x="19" y="444"/>
                    </a:lnTo>
                    <a:lnTo>
                      <a:pt x="19" y="466"/>
                    </a:lnTo>
                    <a:lnTo>
                      <a:pt x="23" y="488"/>
                    </a:lnTo>
                    <a:lnTo>
                      <a:pt x="27" y="508"/>
                    </a:lnTo>
                    <a:lnTo>
                      <a:pt x="34" y="526"/>
                    </a:lnTo>
                    <a:lnTo>
                      <a:pt x="44" y="542"/>
                    </a:lnTo>
                    <a:lnTo>
                      <a:pt x="55" y="555"/>
                    </a:lnTo>
                    <a:lnTo>
                      <a:pt x="66" y="567"/>
                    </a:lnTo>
                    <a:lnTo>
                      <a:pt x="79" y="575"/>
                    </a:lnTo>
                    <a:lnTo>
                      <a:pt x="93" y="581"/>
                    </a:lnTo>
                    <a:lnTo>
                      <a:pt x="106" y="581"/>
                    </a:lnTo>
                    <a:lnTo>
                      <a:pt x="120" y="579"/>
                    </a:lnTo>
                    <a:lnTo>
                      <a:pt x="135" y="572"/>
                    </a:lnTo>
                    <a:lnTo>
                      <a:pt x="149" y="562"/>
                    </a:lnTo>
                    <a:lnTo>
                      <a:pt x="163" y="546"/>
                    </a:lnTo>
                    <a:lnTo>
                      <a:pt x="172" y="558"/>
                    </a:lnTo>
                    <a:lnTo>
                      <a:pt x="182" y="569"/>
                    </a:lnTo>
                    <a:lnTo>
                      <a:pt x="192" y="579"/>
                    </a:lnTo>
                    <a:lnTo>
                      <a:pt x="202" y="587"/>
                    </a:lnTo>
                    <a:lnTo>
                      <a:pt x="213" y="595"/>
                    </a:lnTo>
                    <a:lnTo>
                      <a:pt x="225" y="601"/>
                    </a:lnTo>
                    <a:lnTo>
                      <a:pt x="237" y="605"/>
                    </a:lnTo>
                    <a:lnTo>
                      <a:pt x="249" y="608"/>
                    </a:lnTo>
                    <a:lnTo>
                      <a:pt x="260" y="610"/>
                    </a:lnTo>
                    <a:lnTo>
                      <a:pt x="272" y="610"/>
                    </a:lnTo>
                    <a:lnTo>
                      <a:pt x="284" y="610"/>
                    </a:lnTo>
                    <a:lnTo>
                      <a:pt x="296" y="608"/>
                    </a:lnTo>
                    <a:lnTo>
                      <a:pt x="308" y="604"/>
                    </a:lnTo>
                    <a:lnTo>
                      <a:pt x="320" y="600"/>
                    </a:lnTo>
                    <a:lnTo>
                      <a:pt x="332" y="594"/>
                    </a:lnTo>
                    <a:lnTo>
                      <a:pt x="344" y="586"/>
                    </a:lnTo>
                    <a:lnTo>
                      <a:pt x="358" y="603"/>
                    </a:lnTo>
                    <a:lnTo>
                      <a:pt x="373" y="616"/>
                    </a:lnTo>
                    <a:lnTo>
                      <a:pt x="389" y="628"/>
                    </a:lnTo>
                    <a:lnTo>
                      <a:pt x="406" y="637"/>
                    </a:lnTo>
                    <a:lnTo>
                      <a:pt x="421" y="644"/>
                    </a:lnTo>
                    <a:lnTo>
                      <a:pt x="439" y="647"/>
                    </a:lnTo>
                    <a:lnTo>
                      <a:pt x="456" y="650"/>
                    </a:lnTo>
                    <a:lnTo>
                      <a:pt x="474" y="648"/>
                    </a:lnTo>
                    <a:lnTo>
                      <a:pt x="489" y="647"/>
                    </a:lnTo>
                    <a:lnTo>
                      <a:pt x="507" y="641"/>
                    </a:lnTo>
                    <a:lnTo>
                      <a:pt x="523" y="635"/>
                    </a:lnTo>
                    <a:lnTo>
                      <a:pt x="540" y="625"/>
                    </a:lnTo>
                    <a:lnTo>
                      <a:pt x="555" y="614"/>
                    </a:lnTo>
                    <a:lnTo>
                      <a:pt x="571" y="599"/>
                    </a:lnTo>
                    <a:lnTo>
                      <a:pt x="585" y="582"/>
                    </a:lnTo>
                    <a:lnTo>
                      <a:pt x="600" y="563"/>
                    </a:lnTo>
                    <a:lnTo>
                      <a:pt x="616" y="568"/>
                    </a:lnTo>
                    <a:lnTo>
                      <a:pt x="633" y="565"/>
                    </a:lnTo>
                    <a:lnTo>
                      <a:pt x="649" y="560"/>
                    </a:lnTo>
                    <a:lnTo>
                      <a:pt x="664" y="549"/>
                    </a:lnTo>
                    <a:lnTo>
                      <a:pt x="676" y="538"/>
                    </a:lnTo>
                    <a:lnTo>
                      <a:pt x="687" y="521"/>
                    </a:lnTo>
                    <a:lnTo>
                      <a:pt x="695" y="503"/>
                    </a:lnTo>
                    <a:lnTo>
                      <a:pt x="704" y="482"/>
                    </a:lnTo>
                    <a:lnTo>
                      <a:pt x="707" y="461"/>
                    </a:lnTo>
                    <a:lnTo>
                      <a:pt x="710" y="439"/>
                    </a:lnTo>
                    <a:lnTo>
                      <a:pt x="710" y="417"/>
                    </a:lnTo>
                    <a:lnTo>
                      <a:pt x="708" y="394"/>
                    </a:lnTo>
                    <a:lnTo>
                      <a:pt x="703" y="372"/>
                    </a:lnTo>
                    <a:lnTo>
                      <a:pt x="695" y="351"/>
                    </a:lnTo>
                    <a:lnTo>
                      <a:pt x="684" y="332"/>
                    </a:lnTo>
                    <a:lnTo>
                      <a:pt x="671" y="313"/>
                    </a:lnTo>
                    <a:lnTo>
                      <a:pt x="678" y="302"/>
                    </a:lnTo>
                    <a:lnTo>
                      <a:pt x="685" y="289"/>
                    </a:lnTo>
                    <a:lnTo>
                      <a:pt x="689" y="275"/>
                    </a:lnTo>
                    <a:lnTo>
                      <a:pt x="691" y="260"/>
                    </a:lnTo>
                    <a:lnTo>
                      <a:pt x="691" y="246"/>
                    </a:lnTo>
                    <a:lnTo>
                      <a:pt x="691" y="233"/>
                    </a:lnTo>
                    <a:lnTo>
                      <a:pt x="687" y="219"/>
                    </a:lnTo>
                    <a:lnTo>
                      <a:pt x="684" y="206"/>
                    </a:lnTo>
                    <a:lnTo>
                      <a:pt x="678" y="195"/>
                    </a:lnTo>
                    <a:lnTo>
                      <a:pt x="671" y="185"/>
                    </a:lnTo>
                    <a:lnTo>
                      <a:pt x="663" y="176"/>
                    </a:lnTo>
                    <a:lnTo>
                      <a:pt x="655" y="169"/>
                    </a:lnTo>
                    <a:lnTo>
                      <a:pt x="645" y="166"/>
                    </a:lnTo>
                    <a:lnTo>
                      <a:pt x="635" y="164"/>
                    </a:lnTo>
                    <a:lnTo>
                      <a:pt x="625" y="166"/>
                    </a:lnTo>
                    <a:lnTo>
                      <a:pt x="615" y="171"/>
                    </a:lnTo>
                    <a:lnTo>
                      <a:pt x="606" y="158"/>
                    </a:lnTo>
                    <a:lnTo>
                      <a:pt x="598" y="146"/>
                    </a:lnTo>
                    <a:lnTo>
                      <a:pt x="588" y="135"/>
                    </a:lnTo>
                    <a:lnTo>
                      <a:pt x="580" y="124"/>
                    </a:lnTo>
                    <a:lnTo>
                      <a:pt x="569" y="116"/>
                    </a:lnTo>
                    <a:lnTo>
                      <a:pt x="559" y="108"/>
                    </a:lnTo>
                    <a:lnTo>
                      <a:pt x="548" y="101"/>
                    </a:lnTo>
                    <a:lnTo>
                      <a:pt x="538" y="95"/>
                    </a:lnTo>
                    <a:lnTo>
                      <a:pt x="526" y="93"/>
                    </a:lnTo>
                    <a:lnTo>
                      <a:pt x="515" y="90"/>
                    </a:lnTo>
                    <a:lnTo>
                      <a:pt x="503" y="89"/>
                    </a:lnTo>
                    <a:lnTo>
                      <a:pt x="493" y="89"/>
                    </a:lnTo>
                    <a:lnTo>
                      <a:pt x="481" y="91"/>
                    </a:lnTo>
                    <a:lnTo>
                      <a:pt x="469" y="94"/>
                    </a:lnTo>
                    <a:lnTo>
                      <a:pt x="458" y="99"/>
                    </a:lnTo>
                    <a:lnTo>
                      <a:pt x="448" y="103"/>
                    </a:lnTo>
                    <a:lnTo>
                      <a:pt x="437" y="80"/>
                    </a:lnTo>
                    <a:lnTo>
                      <a:pt x="426" y="59"/>
                    </a:lnTo>
                    <a:lnTo>
                      <a:pt x="413" y="41"/>
                    </a:lnTo>
                    <a:lnTo>
                      <a:pt x="399" y="26"/>
                    </a:lnTo>
                    <a:lnTo>
                      <a:pt x="383" y="15"/>
                    </a:lnTo>
                    <a:lnTo>
                      <a:pt x="367" y="8"/>
                    </a:lnTo>
                    <a:lnTo>
                      <a:pt x="350" y="2"/>
                    </a:lnTo>
                    <a:lnTo>
                      <a:pt x="334" y="0"/>
                    </a:lnTo>
                    <a:lnTo>
                      <a:pt x="316" y="2"/>
                    </a:lnTo>
                    <a:lnTo>
                      <a:pt x="301" y="8"/>
                    </a:lnTo>
                    <a:lnTo>
                      <a:pt x="285" y="15"/>
                    </a:lnTo>
                    <a:lnTo>
                      <a:pt x="270" y="26"/>
                    </a:lnTo>
                    <a:lnTo>
                      <a:pt x="255" y="41"/>
                    </a:lnTo>
                    <a:lnTo>
                      <a:pt x="243" y="59"/>
                    </a:lnTo>
                    <a:lnTo>
                      <a:pt x="231" y="80"/>
                    </a:lnTo>
                    <a:lnTo>
                      <a:pt x="223" y="103"/>
                    </a:lnTo>
                    <a:lnTo>
                      <a:pt x="213" y="88"/>
                    </a:lnTo>
                    <a:lnTo>
                      <a:pt x="203" y="75"/>
                    </a:lnTo>
                    <a:lnTo>
                      <a:pt x="191" y="66"/>
                    </a:lnTo>
                    <a:lnTo>
                      <a:pt x="180" y="60"/>
                    </a:lnTo>
                    <a:lnTo>
                      <a:pt x="168" y="56"/>
                    </a:lnTo>
                    <a:lnTo>
                      <a:pt x="156" y="55"/>
                    </a:lnTo>
                    <a:lnTo>
                      <a:pt x="144" y="56"/>
                    </a:lnTo>
                    <a:lnTo>
                      <a:pt x="132" y="60"/>
                    </a:lnTo>
                    <a:lnTo>
                      <a:pt x="120" y="66"/>
                    </a:lnTo>
                    <a:lnTo>
                      <a:pt x="109" y="75"/>
                    </a:lnTo>
                    <a:lnTo>
                      <a:pt x="99" y="86"/>
                    </a:lnTo>
                    <a:lnTo>
                      <a:pt x="91" y="98"/>
                    </a:lnTo>
                    <a:lnTo>
                      <a:pt x="82" y="113"/>
                    </a:lnTo>
                    <a:lnTo>
                      <a:pt x="77" y="130"/>
                    </a:lnTo>
                    <a:lnTo>
                      <a:pt x="72" y="149"/>
                    </a:lnTo>
                    <a:lnTo>
                      <a:pt x="71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  <a:lnTo>
                      <a:pt x="70" y="168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8720" y="3893400"/>
                <a:ext cx="1004760" cy="640800"/>
              </a:xfrm>
              <a:custGeom>
                <a:avLst/>
                <a:gdLst/>
                <a:ahLst/>
                <a:rect l="l" t="t" r="r" b="b"/>
                <a:pathLst>
                  <a:path w="681" h="591">
                    <a:moveTo>
                      <a:pt x="66" y="149"/>
                    </a:moveTo>
                    <a:lnTo>
                      <a:pt x="54" y="155"/>
                    </a:lnTo>
                    <a:lnTo>
                      <a:pt x="44" y="163"/>
                    </a:lnTo>
                    <a:lnTo>
                      <a:pt x="34" y="173"/>
                    </a:lnTo>
                    <a:lnTo>
                      <a:pt x="26" y="183"/>
                    </a:lnTo>
                    <a:lnTo>
                      <a:pt x="18" y="196"/>
                    </a:lnTo>
                    <a:lnTo>
                      <a:pt x="12" y="210"/>
                    </a:lnTo>
                    <a:lnTo>
                      <a:pt x="7" y="225"/>
                    </a:lnTo>
                    <a:lnTo>
                      <a:pt x="4" y="240"/>
                    </a:lnTo>
                    <a:lnTo>
                      <a:pt x="2" y="258"/>
                    </a:lnTo>
                    <a:lnTo>
                      <a:pt x="0" y="274"/>
                    </a:lnTo>
                    <a:lnTo>
                      <a:pt x="0" y="291"/>
                    </a:lnTo>
                    <a:lnTo>
                      <a:pt x="2" y="307"/>
                    </a:lnTo>
                    <a:lnTo>
                      <a:pt x="5" y="323"/>
                    </a:lnTo>
                    <a:lnTo>
                      <a:pt x="10" y="338"/>
                    </a:lnTo>
                    <a:lnTo>
                      <a:pt x="15" y="353"/>
                    </a:lnTo>
                    <a:lnTo>
                      <a:pt x="24" y="365"/>
                    </a:lnTo>
                    <a:lnTo>
                      <a:pt x="18" y="386"/>
                    </a:lnTo>
                    <a:lnTo>
                      <a:pt x="17" y="405"/>
                    </a:lnTo>
                    <a:lnTo>
                      <a:pt x="18" y="425"/>
                    </a:lnTo>
                    <a:lnTo>
                      <a:pt x="21" y="443"/>
                    </a:lnTo>
                    <a:lnTo>
                      <a:pt x="26" y="461"/>
                    </a:lnTo>
                    <a:lnTo>
                      <a:pt x="32" y="476"/>
                    </a:lnTo>
                    <a:lnTo>
                      <a:pt x="40" y="491"/>
                    </a:lnTo>
                    <a:lnTo>
                      <a:pt x="51" y="502"/>
                    </a:lnTo>
                    <a:lnTo>
                      <a:pt x="61" y="511"/>
                    </a:lnTo>
                    <a:lnTo>
                      <a:pt x="73" y="518"/>
                    </a:lnTo>
                    <a:lnTo>
                      <a:pt x="85" y="522"/>
                    </a:lnTo>
                    <a:lnTo>
                      <a:pt x="99" y="522"/>
                    </a:lnTo>
                    <a:lnTo>
                      <a:pt x="111" y="521"/>
                    </a:lnTo>
                    <a:lnTo>
                      <a:pt x="125" y="515"/>
                    </a:lnTo>
                    <a:lnTo>
                      <a:pt x="138" y="505"/>
                    </a:lnTo>
                    <a:lnTo>
                      <a:pt x="151" y="491"/>
                    </a:lnTo>
                    <a:lnTo>
                      <a:pt x="159" y="503"/>
                    </a:lnTo>
                    <a:lnTo>
                      <a:pt x="168" y="513"/>
                    </a:lnTo>
                    <a:lnTo>
                      <a:pt x="178" y="522"/>
                    </a:lnTo>
                    <a:lnTo>
                      <a:pt x="189" y="529"/>
                    </a:lnTo>
                    <a:lnTo>
                      <a:pt x="200" y="536"/>
                    </a:lnTo>
                    <a:lnTo>
                      <a:pt x="212" y="542"/>
                    </a:lnTo>
                    <a:lnTo>
                      <a:pt x="224" y="546"/>
                    </a:lnTo>
                    <a:lnTo>
                      <a:pt x="237" y="549"/>
                    </a:lnTo>
                    <a:lnTo>
                      <a:pt x="249" y="552"/>
                    </a:lnTo>
                    <a:lnTo>
                      <a:pt x="261" y="554"/>
                    </a:lnTo>
                    <a:lnTo>
                      <a:pt x="272" y="554"/>
                    </a:lnTo>
                    <a:lnTo>
                      <a:pt x="286" y="552"/>
                    </a:lnTo>
                    <a:lnTo>
                      <a:pt x="297" y="550"/>
                    </a:lnTo>
                    <a:lnTo>
                      <a:pt x="309" y="546"/>
                    </a:lnTo>
                    <a:lnTo>
                      <a:pt x="320" y="541"/>
                    </a:lnTo>
                    <a:lnTo>
                      <a:pt x="332" y="535"/>
                    </a:lnTo>
                    <a:lnTo>
                      <a:pt x="344" y="549"/>
                    </a:lnTo>
                    <a:lnTo>
                      <a:pt x="358" y="561"/>
                    </a:lnTo>
                    <a:lnTo>
                      <a:pt x="374" y="571"/>
                    </a:lnTo>
                    <a:lnTo>
                      <a:pt x="389" y="579"/>
                    </a:lnTo>
                    <a:lnTo>
                      <a:pt x="405" y="585"/>
                    </a:lnTo>
                    <a:lnTo>
                      <a:pt x="422" y="588"/>
                    </a:lnTo>
                    <a:lnTo>
                      <a:pt x="440" y="590"/>
                    </a:lnTo>
                    <a:lnTo>
                      <a:pt x="457" y="588"/>
                    </a:lnTo>
                    <a:lnTo>
                      <a:pt x="473" y="587"/>
                    </a:lnTo>
                    <a:lnTo>
                      <a:pt x="490" y="582"/>
                    </a:lnTo>
                    <a:lnTo>
                      <a:pt x="506" y="576"/>
                    </a:lnTo>
                    <a:lnTo>
                      <a:pt x="523" y="567"/>
                    </a:lnTo>
                    <a:lnTo>
                      <a:pt x="537" y="557"/>
                    </a:lnTo>
                    <a:lnTo>
                      <a:pt x="552" y="545"/>
                    </a:lnTo>
                    <a:lnTo>
                      <a:pt x="566" y="530"/>
                    </a:lnTo>
                    <a:lnTo>
                      <a:pt x="579" y="514"/>
                    </a:lnTo>
                    <a:lnTo>
                      <a:pt x="594" y="516"/>
                    </a:lnTo>
                    <a:lnTo>
                      <a:pt x="610" y="515"/>
                    </a:lnTo>
                    <a:lnTo>
                      <a:pt x="624" y="509"/>
                    </a:lnTo>
                    <a:lnTo>
                      <a:pt x="637" y="499"/>
                    </a:lnTo>
                    <a:lnTo>
                      <a:pt x="647" y="487"/>
                    </a:lnTo>
                    <a:lnTo>
                      <a:pt x="658" y="471"/>
                    </a:lnTo>
                    <a:lnTo>
                      <a:pt x="666" y="454"/>
                    </a:lnTo>
                    <a:lnTo>
                      <a:pt x="673" y="434"/>
                    </a:lnTo>
                    <a:lnTo>
                      <a:pt x="677" y="414"/>
                    </a:lnTo>
                    <a:lnTo>
                      <a:pt x="679" y="393"/>
                    </a:lnTo>
                    <a:lnTo>
                      <a:pt x="680" y="372"/>
                    </a:lnTo>
                    <a:lnTo>
                      <a:pt x="678" y="351"/>
                    </a:lnTo>
                    <a:lnTo>
                      <a:pt x="674" y="331"/>
                    </a:lnTo>
                    <a:lnTo>
                      <a:pt x="667" y="311"/>
                    </a:lnTo>
                    <a:lnTo>
                      <a:pt x="658" y="294"/>
                    </a:lnTo>
                    <a:lnTo>
                      <a:pt x="646" y="278"/>
                    </a:lnTo>
                    <a:lnTo>
                      <a:pt x="653" y="268"/>
                    </a:lnTo>
                    <a:lnTo>
                      <a:pt x="658" y="257"/>
                    </a:lnTo>
                    <a:lnTo>
                      <a:pt x="661" y="245"/>
                    </a:lnTo>
                    <a:lnTo>
                      <a:pt x="664" y="232"/>
                    </a:lnTo>
                    <a:lnTo>
                      <a:pt x="664" y="220"/>
                    </a:lnTo>
                    <a:lnTo>
                      <a:pt x="663" y="208"/>
                    </a:lnTo>
                    <a:lnTo>
                      <a:pt x="660" y="196"/>
                    </a:lnTo>
                    <a:lnTo>
                      <a:pt x="658" y="185"/>
                    </a:lnTo>
                    <a:lnTo>
                      <a:pt x="651" y="176"/>
                    </a:lnTo>
                    <a:lnTo>
                      <a:pt x="645" y="167"/>
                    </a:lnTo>
                    <a:lnTo>
                      <a:pt x="638" y="160"/>
                    </a:lnTo>
                    <a:lnTo>
                      <a:pt x="631" y="153"/>
                    </a:lnTo>
                    <a:lnTo>
                      <a:pt x="622" y="150"/>
                    </a:lnTo>
                    <a:lnTo>
                      <a:pt x="613" y="149"/>
                    </a:lnTo>
                    <a:lnTo>
                      <a:pt x="603" y="150"/>
                    </a:lnTo>
                    <a:lnTo>
                      <a:pt x="594" y="154"/>
                    </a:lnTo>
                    <a:lnTo>
                      <a:pt x="587" y="144"/>
                    </a:lnTo>
                    <a:lnTo>
                      <a:pt x="579" y="133"/>
                    </a:lnTo>
                    <a:lnTo>
                      <a:pt x="569" y="123"/>
                    </a:lnTo>
                    <a:lnTo>
                      <a:pt x="560" y="113"/>
                    </a:lnTo>
                    <a:lnTo>
                      <a:pt x="550" y="105"/>
                    </a:lnTo>
                    <a:lnTo>
                      <a:pt x="540" y="98"/>
                    </a:lnTo>
                    <a:lnTo>
                      <a:pt x="528" y="92"/>
                    </a:lnTo>
                    <a:lnTo>
                      <a:pt x="518" y="86"/>
                    </a:lnTo>
                    <a:lnTo>
                      <a:pt x="506" y="83"/>
                    </a:lnTo>
                    <a:lnTo>
                      <a:pt x="494" y="80"/>
                    </a:lnTo>
                    <a:lnTo>
                      <a:pt x="482" y="79"/>
                    </a:lnTo>
                    <a:lnTo>
                      <a:pt x="473" y="77"/>
                    </a:lnTo>
                    <a:lnTo>
                      <a:pt x="461" y="79"/>
                    </a:lnTo>
                    <a:lnTo>
                      <a:pt x="451" y="81"/>
                    </a:lnTo>
                    <a:lnTo>
                      <a:pt x="440" y="84"/>
                    </a:lnTo>
                    <a:lnTo>
                      <a:pt x="430" y="88"/>
                    </a:lnTo>
                    <a:lnTo>
                      <a:pt x="420" y="68"/>
                    </a:lnTo>
                    <a:lnTo>
                      <a:pt x="410" y="50"/>
                    </a:lnTo>
                    <a:lnTo>
                      <a:pt x="396" y="35"/>
                    </a:lnTo>
                    <a:lnTo>
                      <a:pt x="383" y="22"/>
                    </a:lnTo>
                    <a:lnTo>
                      <a:pt x="368" y="13"/>
                    </a:lnTo>
                    <a:lnTo>
                      <a:pt x="352" y="6"/>
                    </a:lnTo>
                    <a:lnTo>
                      <a:pt x="336" y="2"/>
                    </a:lnTo>
                    <a:lnTo>
                      <a:pt x="321" y="0"/>
                    </a:lnTo>
                    <a:lnTo>
                      <a:pt x="303" y="2"/>
                    </a:lnTo>
                    <a:lnTo>
                      <a:pt x="288" y="6"/>
                    </a:lnTo>
                    <a:lnTo>
                      <a:pt x="272" y="14"/>
                    </a:lnTo>
                    <a:lnTo>
                      <a:pt x="257" y="23"/>
                    </a:lnTo>
                    <a:lnTo>
                      <a:pt x="243" y="36"/>
                    </a:lnTo>
                    <a:lnTo>
                      <a:pt x="231" y="52"/>
                    </a:lnTo>
                    <a:lnTo>
                      <a:pt x="220" y="70"/>
                    </a:lnTo>
                    <a:lnTo>
                      <a:pt x="212" y="91"/>
                    </a:lnTo>
                    <a:lnTo>
                      <a:pt x="203" y="78"/>
                    </a:lnTo>
                    <a:lnTo>
                      <a:pt x="193" y="67"/>
                    </a:lnTo>
                    <a:lnTo>
                      <a:pt x="182" y="58"/>
                    </a:lnTo>
                    <a:lnTo>
                      <a:pt x="172" y="52"/>
                    </a:lnTo>
                    <a:lnTo>
                      <a:pt x="160" y="48"/>
                    </a:lnTo>
                    <a:lnTo>
                      <a:pt x="148" y="47"/>
                    </a:lnTo>
                    <a:lnTo>
                      <a:pt x="137" y="48"/>
                    </a:lnTo>
                    <a:lnTo>
                      <a:pt x="126" y="49"/>
                    </a:lnTo>
                    <a:lnTo>
                      <a:pt x="114" y="54"/>
                    </a:lnTo>
                    <a:lnTo>
                      <a:pt x="104" y="61"/>
                    </a:lnTo>
                    <a:lnTo>
                      <a:pt x="94" y="70"/>
                    </a:lnTo>
                    <a:lnTo>
                      <a:pt x="86" y="80"/>
                    </a:lnTo>
                    <a:lnTo>
                      <a:pt x="78" y="93"/>
                    </a:lnTo>
                    <a:lnTo>
                      <a:pt x="73" y="107"/>
                    </a:lnTo>
                    <a:lnTo>
                      <a:pt x="69" y="123"/>
                    </a:lnTo>
                    <a:lnTo>
                      <a:pt x="68" y="140"/>
                    </a:lnTo>
                    <a:lnTo>
                      <a:pt x="66" y="141"/>
                    </a:lnTo>
                    <a:lnTo>
                      <a:pt x="66" y="141"/>
                    </a:lnTo>
                    <a:lnTo>
                      <a:pt x="66" y="141"/>
                    </a:lnTo>
                    <a:lnTo>
                      <a:pt x="66" y="141"/>
                    </a:lnTo>
                    <a:lnTo>
                      <a:pt x="66" y="144"/>
                    </a:lnTo>
                    <a:lnTo>
                      <a:pt x="66" y="144"/>
                    </a:lnTo>
                    <a:lnTo>
                      <a:pt x="66" y="145"/>
                    </a:lnTo>
                    <a:lnTo>
                      <a:pt x="66" y="145"/>
                    </a:lnTo>
                    <a:lnTo>
                      <a:pt x="66" y="147"/>
                    </a:lnTo>
                    <a:lnTo>
                      <a:pt x="66" y="147"/>
                    </a:lnTo>
                    <a:lnTo>
                      <a:pt x="66" y="148"/>
                    </a:lnTo>
                    <a:lnTo>
                      <a:pt x="66" y="148"/>
                    </a:lnTo>
                    <a:lnTo>
                      <a:pt x="66" y="149"/>
                    </a:lnTo>
                    <a:lnTo>
                      <a:pt x="66" y="149"/>
                    </a:lnTo>
                    <a:lnTo>
                      <a:pt x="66" y="149"/>
                    </a:lnTo>
                    <a:lnTo>
                      <a:pt x="66" y="149"/>
                    </a:lnTo>
                    <a:lnTo>
                      <a:pt x="66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451960" y="4090680"/>
              <a:ext cx="783360" cy="276480"/>
              <a:chOff x="2451960" y="4090680"/>
              <a:chExt cx="783360" cy="276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451960" y="4124160"/>
                <a:ext cx="783360" cy="203760"/>
              </a:xfrm>
              <a:custGeom>
                <a:avLst/>
                <a:gdLst/>
                <a:ahLst/>
                <a:rect l="l" t="t" r="r" b="b"/>
                <a:pathLst>
                  <a:path w="531" h="188">
                    <a:moveTo>
                      <a:pt x="0" y="187"/>
                    </a:moveTo>
                    <a:lnTo>
                      <a:pt x="530" y="187"/>
                    </a:lnTo>
                    <a:lnTo>
                      <a:pt x="530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0" y="18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15320" y="4090680"/>
                <a:ext cx="68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AP</a:t>
                </a:r>
                <a:endParaRPr b="0" lang="en-US" sz="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3780000" y="1268280"/>
            <a:ext cx="362880" cy="5104800"/>
            <a:chOff x="3780000" y="1268280"/>
            <a:chExt cx="362880" cy="5104800"/>
          </a:xfrm>
        </p:grpSpPr>
        <p:grpSp>
          <p:nvGrpSpPr>
            <p:cNvPr id="219" name=""/>
            <p:cNvGrpSpPr/>
            <p:nvPr/>
          </p:nvGrpSpPr>
          <p:grpSpPr>
            <a:xfrm>
              <a:off x="3908160" y="1268280"/>
              <a:ext cx="151920" cy="5104800"/>
              <a:chOff x="3908160" y="1268280"/>
              <a:chExt cx="151920" cy="5104800"/>
            </a:xfrm>
          </p:grpSpPr>
          <p:sp>
            <p:nvSpPr>
              <p:cNvPr id="220" name=""/>
              <p:cNvSpPr/>
              <p:nvPr/>
            </p:nvSpPr>
            <p:spPr>
              <a:xfrm>
                <a:off x="3908160" y="1268280"/>
                <a:ext cx="151920" cy="51048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08160" y="3092040"/>
                <a:ext cx="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08160" y="600876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08160" y="564444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08160" y="528048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08160" y="491328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08160" y="454896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08160" y="418464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08160" y="382068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08160" y="345636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08160" y="309204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08160" y="272808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08160" y="236088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908160" y="199656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08160" y="1632240"/>
                <a:ext cx="15192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rot="10800000">
              <a:off x="3780000" y="3521520"/>
              <a:ext cx="3628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irewall Node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2195640" y="3209400"/>
            <a:ext cx="287280" cy="36036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364000" y="2924280"/>
            <a:ext cx="934920" cy="1512360"/>
            <a:chOff x="5364000" y="2924280"/>
            <a:chExt cx="934920" cy="1512360"/>
          </a:xfrm>
        </p:grpSpPr>
        <p:sp>
          <p:nvSpPr>
            <p:cNvPr id="238" name=""/>
            <p:cNvSpPr/>
            <p:nvPr/>
          </p:nvSpPr>
          <p:spPr>
            <a:xfrm>
              <a:off x="5364000" y="3659400"/>
              <a:ext cx="934920" cy="77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ySQL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64000" y="2924280"/>
              <a:ext cx="934920" cy="7776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ache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penEMR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50920" y="105264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Typical Deployment Scenari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al Model – System Topology 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57160" y="1143000"/>
            <a:ext cx="6594480" cy="5230080"/>
            <a:chOff x="857160" y="1143000"/>
            <a:chExt cx="6594480" cy="5230080"/>
          </a:xfrm>
        </p:grpSpPr>
        <p:sp>
          <p:nvSpPr>
            <p:cNvPr id="243" name=""/>
            <p:cNvSpPr/>
            <p:nvPr/>
          </p:nvSpPr>
          <p:spPr>
            <a:xfrm>
              <a:off x="5033880" y="3500280"/>
              <a:ext cx="165600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009520" y="4218120"/>
              <a:ext cx="215640" cy="2156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09880" y="2778120"/>
              <a:ext cx="476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7160" y="2633760"/>
              <a:ext cx="1143000" cy="228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1d528d"/>
              </a:solidFill>
              <a:miter/>
            </a:ln>
            <a:effectLst>
              <a:outerShdw dist="17819" dir="2700000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7160" y="3425760"/>
              <a:ext cx="1143000" cy="228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1d528d"/>
              </a:solidFill>
              <a:miter/>
            </a:ln>
            <a:effectLst>
              <a:outerShdw dist="17819" dir="2700000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obile Devices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225520" y="2633760"/>
              <a:ext cx="1066680" cy="723600"/>
              <a:chOff x="2225520" y="2633760"/>
              <a:chExt cx="1066680" cy="7236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2225520" y="2633760"/>
                <a:ext cx="1066680" cy="723600"/>
                <a:chOff x="2225520" y="2633760"/>
                <a:chExt cx="1066680" cy="723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243160" y="2653200"/>
                  <a:ext cx="1049040" cy="704160"/>
                </a:xfrm>
                <a:custGeom>
                  <a:avLst/>
                  <a:gdLst/>
                  <a:ahLst/>
                  <a:rect l="l" t="t" r="r" b="b"/>
                  <a:pathLst>
                    <a:path w="711" h="649">
                      <a:moveTo>
                        <a:pt x="71" y="167"/>
                      </a:moveTo>
                      <a:lnTo>
                        <a:pt x="58" y="173"/>
                      </a:lnTo>
                      <a:lnTo>
                        <a:pt x="46" y="181"/>
                      </a:lnTo>
                      <a:lnTo>
                        <a:pt x="36" y="191"/>
                      </a:lnTo>
                      <a:lnTo>
                        <a:pt x="27" y="202"/>
                      </a:lnTo>
                      <a:lnTo>
                        <a:pt x="18" y="216"/>
                      </a:lnTo>
                      <a:lnTo>
                        <a:pt x="12" y="230"/>
                      </a:lnTo>
                      <a:lnTo>
                        <a:pt x="7" y="247"/>
                      </a:lnTo>
                      <a:lnTo>
                        <a:pt x="3" y="262"/>
                      </a:lnTo>
                      <a:lnTo>
                        <a:pt x="1" y="280"/>
                      </a:lnTo>
                      <a:lnTo>
                        <a:pt x="0" y="297"/>
                      </a:lnTo>
                      <a:lnTo>
                        <a:pt x="0" y="315"/>
                      </a:lnTo>
                      <a:lnTo>
                        <a:pt x="3" y="333"/>
                      </a:lnTo>
                      <a:lnTo>
                        <a:pt x="6" y="351"/>
                      </a:lnTo>
                      <a:lnTo>
                        <a:pt x="11" y="366"/>
                      </a:lnTo>
                      <a:lnTo>
                        <a:pt x="19" y="382"/>
                      </a:lnTo>
                      <a:lnTo>
                        <a:pt x="28" y="396"/>
                      </a:lnTo>
                      <a:lnTo>
                        <a:pt x="21" y="420"/>
                      </a:lnTo>
                      <a:lnTo>
                        <a:pt x="19" y="443"/>
                      </a:lnTo>
                      <a:lnTo>
                        <a:pt x="19" y="465"/>
                      </a:lnTo>
                      <a:lnTo>
                        <a:pt x="22" y="487"/>
                      </a:lnTo>
                      <a:lnTo>
                        <a:pt x="27" y="507"/>
                      </a:lnTo>
                      <a:lnTo>
                        <a:pt x="34" y="524"/>
                      </a:lnTo>
                      <a:lnTo>
                        <a:pt x="44" y="541"/>
                      </a:lnTo>
                      <a:lnTo>
                        <a:pt x="55" y="553"/>
                      </a:lnTo>
                      <a:lnTo>
                        <a:pt x="66" y="565"/>
                      </a:lnTo>
                      <a:lnTo>
                        <a:pt x="79" y="573"/>
                      </a:lnTo>
                      <a:lnTo>
                        <a:pt x="93" y="578"/>
                      </a:lnTo>
                      <a:lnTo>
                        <a:pt x="107" y="579"/>
                      </a:lnTo>
                      <a:lnTo>
                        <a:pt x="121" y="577"/>
                      </a:lnTo>
                      <a:lnTo>
                        <a:pt x="135" y="570"/>
                      </a:lnTo>
                      <a:lnTo>
                        <a:pt x="149" y="560"/>
                      </a:lnTo>
                      <a:lnTo>
                        <a:pt x="164" y="544"/>
                      </a:lnTo>
                      <a:lnTo>
                        <a:pt x="172" y="557"/>
                      </a:lnTo>
                      <a:lnTo>
                        <a:pt x="182" y="568"/>
                      </a:lnTo>
                      <a:lnTo>
                        <a:pt x="192" y="578"/>
                      </a:lnTo>
                      <a:lnTo>
                        <a:pt x="203" y="586"/>
                      </a:lnTo>
                      <a:lnTo>
                        <a:pt x="213" y="594"/>
                      </a:lnTo>
                      <a:lnTo>
                        <a:pt x="225" y="599"/>
                      </a:lnTo>
                      <a:lnTo>
                        <a:pt x="237" y="603"/>
                      </a:lnTo>
                      <a:lnTo>
                        <a:pt x="249" y="606"/>
                      </a:lnTo>
                      <a:lnTo>
                        <a:pt x="261" y="609"/>
                      </a:lnTo>
                      <a:lnTo>
                        <a:pt x="273" y="609"/>
                      </a:lnTo>
                      <a:lnTo>
                        <a:pt x="285" y="609"/>
                      </a:lnTo>
                      <a:lnTo>
                        <a:pt x="297" y="606"/>
                      </a:lnTo>
                      <a:lnTo>
                        <a:pt x="309" y="603"/>
                      </a:lnTo>
                      <a:lnTo>
                        <a:pt x="320" y="598"/>
                      </a:lnTo>
                      <a:lnTo>
                        <a:pt x="332" y="592"/>
                      </a:lnTo>
                      <a:lnTo>
                        <a:pt x="344" y="584"/>
                      </a:lnTo>
                      <a:lnTo>
                        <a:pt x="358" y="601"/>
                      </a:lnTo>
                      <a:lnTo>
                        <a:pt x="373" y="614"/>
                      </a:lnTo>
                      <a:lnTo>
                        <a:pt x="389" y="626"/>
                      </a:lnTo>
                      <a:lnTo>
                        <a:pt x="405" y="635"/>
                      </a:lnTo>
                      <a:lnTo>
                        <a:pt x="421" y="642"/>
                      </a:lnTo>
                      <a:lnTo>
                        <a:pt x="438" y="645"/>
                      </a:lnTo>
                      <a:lnTo>
                        <a:pt x="456" y="648"/>
                      </a:lnTo>
                      <a:lnTo>
                        <a:pt x="474" y="646"/>
                      </a:lnTo>
                      <a:lnTo>
                        <a:pt x="489" y="644"/>
                      </a:lnTo>
                      <a:lnTo>
                        <a:pt x="507" y="639"/>
                      </a:lnTo>
                      <a:lnTo>
                        <a:pt x="523" y="633"/>
                      </a:lnTo>
                      <a:lnTo>
                        <a:pt x="540" y="623"/>
                      </a:lnTo>
                      <a:lnTo>
                        <a:pt x="555" y="611"/>
                      </a:lnTo>
                      <a:lnTo>
                        <a:pt x="571" y="597"/>
                      </a:lnTo>
                      <a:lnTo>
                        <a:pt x="585" y="581"/>
                      </a:lnTo>
                      <a:lnTo>
                        <a:pt x="600" y="562"/>
                      </a:lnTo>
                      <a:lnTo>
                        <a:pt x="616" y="566"/>
                      </a:lnTo>
                      <a:lnTo>
                        <a:pt x="633" y="564"/>
                      </a:lnTo>
                      <a:lnTo>
                        <a:pt x="648" y="558"/>
                      </a:lnTo>
                      <a:lnTo>
                        <a:pt x="664" y="548"/>
                      </a:lnTo>
                      <a:lnTo>
                        <a:pt x="675" y="536"/>
                      </a:lnTo>
                      <a:lnTo>
                        <a:pt x="687" y="520"/>
                      </a:lnTo>
                      <a:lnTo>
                        <a:pt x="695" y="501"/>
                      </a:lnTo>
                      <a:lnTo>
                        <a:pt x="703" y="481"/>
                      </a:lnTo>
                      <a:lnTo>
                        <a:pt x="707" y="459"/>
                      </a:lnTo>
                      <a:lnTo>
                        <a:pt x="710" y="438"/>
                      </a:lnTo>
                      <a:lnTo>
                        <a:pt x="710" y="416"/>
                      </a:lnTo>
                      <a:lnTo>
                        <a:pt x="708" y="392"/>
                      </a:lnTo>
                      <a:lnTo>
                        <a:pt x="703" y="371"/>
                      </a:lnTo>
                      <a:lnTo>
                        <a:pt x="694" y="349"/>
                      </a:lnTo>
                      <a:lnTo>
                        <a:pt x="684" y="330"/>
                      </a:lnTo>
                      <a:lnTo>
                        <a:pt x="671" y="312"/>
                      </a:lnTo>
                      <a:lnTo>
                        <a:pt x="678" y="300"/>
                      </a:lnTo>
                      <a:lnTo>
                        <a:pt x="685" y="287"/>
                      </a:lnTo>
                      <a:lnTo>
                        <a:pt x="688" y="273"/>
                      </a:lnTo>
                      <a:lnTo>
                        <a:pt x="691" y="259"/>
                      </a:lnTo>
                      <a:lnTo>
                        <a:pt x="691" y="245"/>
                      </a:lnTo>
                      <a:lnTo>
                        <a:pt x="690" y="231"/>
                      </a:lnTo>
                      <a:lnTo>
                        <a:pt x="687" y="218"/>
                      </a:lnTo>
                      <a:lnTo>
                        <a:pt x="683" y="204"/>
                      </a:lnTo>
                      <a:lnTo>
                        <a:pt x="677" y="194"/>
                      </a:lnTo>
                      <a:lnTo>
                        <a:pt x="671" y="183"/>
                      </a:lnTo>
                      <a:lnTo>
                        <a:pt x="663" y="174"/>
                      </a:lnTo>
                      <a:lnTo>
                        <a:pt x="655" y="168"/>
                      </a:lnTo>
                      <a:lnTo>
                        <a:pt x="645" y="164"/>
                      </a:lnTo>
                      <a:lnTo>
                        <a:pt x="635" y="162"/>
                      </a:lnTo>
                      <a:lnTo>
                        <a:pt x="625" y="164"/>
                      </a:lnTo>
                      <a:lnTo>
                        <a:pt x="615" y="168"/>
                      </a:lnTo>
                      <a:lnTo>
                        <a:pt x="606" y="156"/>
                      </a:lnTo>
                      <a:lnTo>
                        <a:pt x="598" y="144"/>
                      </a:lnTo>
                      <a:lnTo>
                        <a:pt x="588" y="134"/>
                      </a:lnTo>
                      <a:lnTo>
                        <a:pt x="580" y="123"/>
                      </a:lnTo>
                      <a:lnTo>
                        <a:pt x="568" y="115"/>
                      </a:lnTo>
                      <a:lnTo>
                        <a:pt x="559" y="107"/>
                      </a:lnTo>
                      <a:lnTo>
                        <a:pt x="548" y="101"/>
                      </a:lnTo>
                      <a:lnTo>
                        <a:pt x="538" y="95"/>
                      </a:lnTo>
                      <a:lnTo>
                        <a:pt x="526" y="92"/>
                      </a:lnTo>
                      <a:lnTo>
                        <a:pt x="515" y="90"/>
                      </a:lnTo>
                      <a:lnTo>
                        <a:pt x="503" y="89"/>
                      </a:lnTo>
                      <a:lnTo>
                        <a:pt x="493" y="89"/>
                      </a:lnTo>
                      <a:lnTo>
                        <a:pt x="481" y="91"/>
                      </a:lnTo>
                      <a:lnTo>
                        <a:pt x="469" y="94"/>
                      </a:lnTo>
                      <a:lnTo>
                        <a:pt x="457" y="98"/>
                      </a:lnTo>
                      <a:lnTo>
                        <a:pt x="448" y="103"/>
                      </a:lnTo>
                      <a:lnTo>
                        <a:pt x="437" y="79"/>
                      </a:lnTo>
                      <a:lnTo>
                        <a:pt x="426" y="59"/>
                      </a:lnTo>
                      <a:lnTo>
                        <a:pt x="413" y="41"/>
                      </a:lnTo>
                      <a:lnTo>
                        <a:pt x="399" y="26"/>
                      </a:lnTo>
                      <a:lnTo>
                        <a:pt x="383" y="15"/>
                      </a:lnTo>
                      <a:lnTo>
                        <a:pt x="368" y="7"/>
                      </a:lnTo>
                      <a:lnTo>
                        <a:pt x="351" y="2"/>
                      </a:lnTo>
                      <a:lnTo>
                        <a:pt x="335" y="0"/>
                      </a:lnTo>
                      <a:lnTo>
                        <a:pt x="317" y="2"/>
                      </a:lnTo>
                      <a:lnTo>
                        <a:pt x="301" y="7"/>
                      </a:lnTo>
                      <a:lnTo>
                        <a:pt x="285" y="15"/>
                      </a:lnTo>
                      <a:lnTo>
                        <a:pt x="270" y="26"/>
                      </a:lnTo>
                      <a:lnTo>
                        <a:pt x="256" y="41"/>
                      </a:lnTo>
                      <a:lnTo>
                        <a:pt x="243" y="59"/>
                      </a:lnTo>
                      <a:lnTo>
                        <a:pt x="231" y="79"/>
                      </a:lnTo>
                      <a:lnTo>
                        <a:pt x="223" y="103"/>
                      </a:lnTo>
                      <a:lnTo>
                        <a:pt x="212" y="88"/>
                      </a:lnTo>
                      <a:lnTo>
                        <a:pt x="202" y="75"/>
                      </a:lnTo>
                      <a:lnTo>
                        <a:pt x="190" y="65"/>
                      </a:lnTo>
                      <a:lnTo>
                        <a:pt x="180" y="59"/>
                      </a:lnTo>
                      <a:lnTo>
                        <a:pt x="167" y="56"/>
                      </a:lnTo>
                      <a:lnTo>
                        <a:pt x="155" y="54"/>
                      </a:lnTo>
                      <a:lnTo>
                        <a:pt x="143" y="55"/>
                      </a:lnTo>
                      <a:lnTo>
                        <a:pt x="132" y="58"/>
                      </a:lnTo>
                      <a:lnTo>
                        <a:pt x="120" y="65"/>
                      </a:lnTo>
                      <a:lnTo>
                        <a:pt x="108" y="73"/>
                      </a:lnTo>
                      <a:lnTo>
                        <a:pt x="99" y="84"/>
                      </a:lnTo>
                      <a:lnTo>
                        <a:pt x="91" y="96"/>
                      </a:lnTo>
                      <a:lnTo>
                        <a:pt x="83" y="112"/>
                      </a:lnTo>
                      <a:lnTo>
                        <a:pt x="77" y="128"/>
                      </a:lnTo>
                      <a:lnTo>
                        <a:pt x="73" y="148"/>
                      </a:lnTo>
                      <a:lnTo>
                        <a:pt x="72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225520" y="2633760"/>
                  <a:ext cx="1049040" cy="706320"/>
                </a:xfrm>
                <a:custGeom>
                  <a:avLst/>
                  <a:gdLst/>
                  <a:ahLst/>
                  <a:rect l="l" t="t" r="r" b="b"/>
                  <a:pathLst>
                    <a:path w="711" h="651">
                      <a:moveTo>
                        <a:pt x="70" y="168"/>
                      </a:moveTo>
                      <a:lnTo>
                        <a:pt x="56" y="174"/>
                      </a:lnTo>
                      <a:lnTo>
                        <a:pt x="45" y="182"/>
                      </a:lnTo>
                      <a:lnTo>
                        <a:pt x="34" y="193"/>
                      </a:lnTo>
                      <a:lnTo>
                        <a:pt x="26" y="204"/>
                      </a:lnTo>
                      <a:lnTo>
                        <a:pt x="17" y="218"/>
                      </a:lnTo>
                      <a:lnTo>
                        <a:pt x="12" y="232"/>
                      </a:lnTo>
                      <a:lnTo>
                        <a:pt x="7" y="248"/>
                      </a:lnTo>
                      <a:lnTo>
                        <a:pt x="4" y="264"/>
                      </a:lnTo>
                      <a:lnTo>
                        <a:pt x="1" y="281"/>
                      </a:lnTo>
                      <a:lnTo>
                        <a:pt x="0" y="299"/>
                      </a:lnTo>
                      <a:lnTo>
                        <a:pt x="0" y="317"/>
                      </a:lnTo>
                      <a:lnTo>
                        <a:pt x="3" y="334"/>
                      </a:lnTo>
                      <a:lnTo>
                        <a:pt x="6" y="351"/>
                      </a:lnTo>
                      <a:lnTo>
                        <a:pt x="12" y="367"/>
                      </a:lnTo>
                      <a:lnTo>
                        <a:pt x="19" y="383"/>
                      </a:lnTo>
                      <a:lnTo>
                        <a:pt x="28" y="397"/>
                      </a:lnTo>
                      <a:lnTo>
                        <a:pt x="21" y="421"/>
                      </a:lnTo>
                      <a:lnTo>
                        <a:pt x="19" y="444"/>
                      </a:lnTo>
                      <a:lnTo>
                        <a:pt x="19" y="466"/>
                      </a:lnTo>
                      <a:lnTo>
                        <a:pt x="23" y="488"/>
                      </a:lnTo>
                      <a:lnTo>
                        <a:pt x="27" y="508"/>
                      </a:lnTo>
                      <a:lnTo>
                        <a:pt x="34" y="526"/>
                      </a:lnTo>
                      <a:lnTo>
                        <a:pt x="44" y="542"/>
                      </a:lnTo>
                      <a:lnTo>
                        <a:pt x="55" y="555"/>
                      </a:lnTo>
                      <a:lnTo>
                        <a:pt x="66" y="567"/>
                      </a:lnTo>
                      <a:lnTo>
                        <a:pt x="79" y="575"/>
                      </a:lnTo>
                      <a:lnTo>
                        <a:pt x="93" y="581"/>
                      </a:lnTo>
                      <a:lnTo>
                        <a:pt x="106" y="581"/>
                      </a:lnTo>
                      <a:lnTo>
                        <a:pt x="120" y="579"/>
                      </a:lnTo>
                      <a:lnTo>
                        <a:pt x="135" y="572"/>
                      </a:lnTo>
                      <a:lnTo>
                        <a:pt x="149" y="562"/>
                      </a:lnTo>
                      <a:lnTo>
                        <a:pt x="163" y="546"/>
                      </a:lnTo>
                      <a:lnTo>
                        <a:pt x="172" y="558"/>
                      </a:lnTo>
                      <a:lnTo>
                        <a:pt x="182" y="569"/>
                      </a:lnTo>
                      <a:lnTo>
                        <a:pt x="192" y="579"/>
                      </a:lnTo>
                      <a:lnTo>
                        <a:pt x="202" y="587"/>
                      </a:lnTo>
                      <a:lnTo>
                        <a:pt x="213" y="595"/>
                      </a:lnTo>
                      <a:lnTo>
                        <a:pt x="225" y="601"/>
                      </a:lnTo>
                      <a:lnTo>
                        <a:pt x="237" y="605"/>
                      </a:lnTo>
                      <a:lnTo>
                        <a:pt x="249" y="608"/>
                      </a:lnTo>
                      <a:lnTo>
                        <a:pt x="260" y="610"/>
                      </a:lnTo>
                      <a:lnTo>
                        <a:pt x="272" y="610"/>
                      </a:lnTo>
                      <a:lnTo>
                        <a:pt x="284" y="610"/>
                      </a:lnTo>
                      <a:lnTo>
                        <a:pt x="296" y="608"/>
                      </a:lnTo>
                      <a:lnTo>
                        <a:pt x="308" y="604"/>
                      </a:lnTo>
                      <a:lnTo>
                        <a:pt x="320" y="600"/>
                      </a:lnTo>
                      <a:lnTo>
                        <a:pt x="332" y="594"/>
                      </a:lnTo>
                      <a:lnTo>
                        <a:pt x="344" y="586"/>
                      </a:lnTo>
                      <a:lnTo>
                        <a:pt x="358" y="603"/>
                      </a:lnTo>
                      <a:lnTo>
                        <a:pt x="373" y="616"/>
                      </a:lnTo>
                      <a:lnTo>
                        <a:pt x="389" y="628"/>
                      </a:lnTo>
                      <a:lnTo>
                        <a:pt x="406" y="637"/>
                      </a:lnTo>
                      <a:lnTo>
                        <a:pt x="421" y="644"/>
                      </a:lnTo>
                      <a:lnTo>
                        <a:pt x="439" y="647"/>
                      </a:lnTo>
                      <a:lnTo>
                        <a:pt x="456" y="650"/>
                      </a:lnTo>
                      <a:lnTo>
                        <a:pt x="474" y="648"/>
                      </a:lnTo>
                      <a:lnTo>
                        <a:pt x="489" y="647"/>
                      </a:lnTo>
                      <a:lnTo>
                        <a:pt x="507" y="641"/>
                      </a:lnTo>
                      <a:lnTo>
                        <a:pt x="523" y="635"/>
                      </a:lnTo>
                      <a:lnTo>
                        <a:pt x="540" y="625"/>
                      </a:lnTo>
                      <a:lnTo>
                        <a:pt x="555" y="614"/>
                      </a:lnTo>
                      <a:lnTo>
                        <a:pt x="571" y="599"/>
                      </a:lnTo>
                      <a:lnTo>
                        <a:pt x="585" y="582"/>
                      </a:lnTo>
                      <a:lnTo>
                        <a:pt x="600" y="563"/>
                      </a:lnTo>
                      <a:lnTo>
                        <a:pt x="616" y="568"/>
                      </a:lnTo>
                      <a:lnTo>
                        <a:pt x="633" y="565"/>
                      </a:lnTo>
                      <a:lnTo>
                        <a:pt x="649" y="560"/>
                      </a:lnTo>
                      <a:lnTo>
                        <a:pt x="664" y="549"/>
                      </a:lnTo>
                      <a:lnTo>
                        <a:pt x="676" y="538"/>
                      </a:lnTo>
                      <a:lnTo>
                        <a:pt x="687" y="521"/>
                      </a:lnTo>
                      <a:lnTo>
                        <a:pt x="695" y="503"/>
                      </a:lnTo>
                      <a:lnTo>
                        <a:pt x="704" y="482"/>
                      </a:lnTo>
                      <a:lnTo>
                        <a:pt x="707" y="461"/>
                      </a:lnTo>
                      <a:lnTo>
                        <a:pt x="710" y="439"/>
                      </a:lnTo>
                      <a:lnTo>
                        <a:pt x="710" y="417"/>
                      </a:lnTo>
                      <a:lnTo>
                        <a:pt x="708" y="394"/>
                      </a:lnTo>
                      <a:lnTo>
                        <a:pt x="703" y="372"/>
                      </a:lnTo>
                      <a:lnTo>
                        <a:pt x="695" y="351"/>
                      </a:lnTo>
                      <a:lnTo>
                        <a:pt x="684" y="332"/>
                      </a:lnTo>
                      <a:lnTo>
                        <a:pt x="671" y="313"/>
                      </a:lnTo>
                      <a:lnTo>
                        <a:pt x="678" y="302"/>
                      </a:lnTo>
                      <a:lnTo>
                        <a:pt x="685" y="289"/>
                      </a:lnTo>
                      <a:lnTo>
                        <a:pt x="689" y="275"/>
                      </a:lnTo>
                      <a:lnTo>
                        <a:pt x="691" y="260"/>
                      </a:lnTo>
                      <a:lnTo>
                        <a:pt x="691" y="246"/>
                      </a:lnTo>
                      <a:lnTo>
                        <a:pt x="691" y="233"/>
                      </a:lnTo>
                      <a:lnTo>
                        <a:pt x="687" y="219"/>
                      </a:lnTo>
                      <a:lnTo>
                        <a:pt x="684" y="206"/>
                      </a:lnTo>
                      <a:lnTo>
                        <a:pt x="678" y="195"/>
                      </a:lnTo>
                      <a:lnTo>
                        <a:pt x="671" y="185"/>
                      </a:lnTo>
                      <a:lnTo>
                        <a:pt x="663" y="176"/>
                      </a:lnTo>
                      <a:lnTo>
                        <a:pt x="655" y="169"/>
                      </a:lnTo>
                      <a:lnTo>
                        <a:pt x="645" y="166"/>
                      </a:lnTo>
                      <a:lnTo>
                        <a:pt x="635" y="164"/>
                      </a:lnTo>
                      <a:lnTo>
                        <a:pt x="625" y="166"/>
                      </a:lnTo>
                      <a:lnTo>
                        <a:pt x="615" y="171"/>
                      </a:lnTo>
                      <a:lnTo>
                        <a:pt x="606" y="158"/>
                      </a:lnTo>
                      <a:lnTo>
                        <a:pt x="598" y="146"/>
                      </a:lnTo>
                      <a:lnTo>
                        <a:pt x="588" y="135"/>
                      </a:lnTo>
                      <a:lnTo>
                        <a:pt x="580" y="124"/>
                      </a:lnTo>
                      <a:lnTo>
                        <a:pt x="569" y="116"/>
                      </a:lnTo>
                      <a:lnTo>
                        <a:pt x="559" y="108"/>
                      </a:lnTo>
                      <a:lnTo>
                        <a:pt x="548" y="101"/>
                      </a:lnTo>
                      <a:lnTo>
                        <a:pt x="538" y="95"/>
                      </a:lnTo>
                      <a:lnTo>
                        <a:pt x="526" y="93"/>
                      </a:lnTo>
                      <a:lnTo>
                        <a:pt x="515" y="90"/>
                      </a:lnTo>
                      <a:lnTo>
                        <a:pt x="503" y="89"/>
                      </a:lnTo>
                      <a:lnTo>
                        <a:pt x="493" y="89"/>
                      </a:lnTo>
                      <a:lnTo>
                        <a:pt x="481" y="91"/>
                      </a:lnTo>
                      <a:lnTo>
                        <a:pt x="469" y="94"/>
                      </a:lnTo>
                      <a:lnTo>
                        <a:pt x="458" y="99"/>
                      </a:lnTo>
                      <a:lnTo>
                        <a:pt x="448" y="103"/>
                      </a:lnTo>
                      <a:lnTo>
                        <a:pt x="437" y="80"/>
                      </a:lnTo>
                      <a:lnTo>
                        <a:pt x="426" y="59"/>
                      </a:lnTo>
                      <a:lnTo>
                        <a:pt x="413" y="41"/>
                      </a:lnTo>
                      <a:lnTo>
                        <a:pt x="399" y="26"/>
                      </a:lnTo>
                      <a:lnTo>
                        <a:pt x="383" y="15"/>
                      </a:lnTo>
                      <a:lnTo>
                        <a:pt x="367" y="8"/>
                      </a:lnTo>
                      <a:lnTo>
                        <a:pt x="350" y="2"/>
                      </a:lnTo>
                      <a:lnTo>
                        <a:pt x="334" y="0"/>
                      </a:lnTo>
                      <a:lnTo>
                        <a:pt x="316" y="2"/>
                      </a:lnTo>
                      <a:lnTo>
                        <a:pt x="301" y="8"/>
                      </a:lnTo>
                      <a:lnTo>
                        <a:pt x="285" y="15"/>
                      </a:lnTo>
                      <a:lnTo>
                        <a:pt x="270" y="26"/>
                      </a:lnTo>
                      <a:lnTo>
                        <a:pt x="255" y="41"/>
                      </a:lnTo>
                      <a:lnTo>
                        <a:pt x="243" y="59"/>
                      </a:lnTo>
                      <a:lnTo>
                        <a:pt x="231" y="80"/>
                      </a:lnTo>
                      <a:lnTo>
                        <a:pt x="223" y="103"/>
                      </a:lnTo>
                      <a:lnTo>
                        <a:pt x="213" y="88"/>
                      </a:lnTo>
                      <a:lnTo>
                        <a:pt x="203" y="75"/>
                      </a:lnTo>
                      <a:lnTo>
                        <a:pt x="191" y="66"/>
                      </a:lnTo>
                      <a:lnTo>
                        <a:pt x="180" y="60"/>
                      </a:lnTo>
                      <a:lnTo>
                        <a:pt x="168" y="56"/>
                      </a:lnTo>
                      <a:lnTo>
                        <a:pt x="156" y="55"/>
                      </a:lnTo>
                      <a:lnTo>
                        <a:pt x="144" y="56"/>
                      </a:lnTo>
                      <a:lnTo>
                        <a:pt x="132" y="60"/>
                      </a:lnTo>
                      <a:lnTo>
                        <a:pt x="120" y="66"/>
                      </a:lnTo>
                      <a:lnTo>
                        <a:pt x="109" y="75"/>
                      </a:lnTo>
                      <a:lnTo>
                        <a:pt x="99" y="86"/>
                      </a:lnTo>
                      <a:lnTo>
                        <a:pt x="91" y="98"/>
                      </a:lnTo>
                      <a:lnTo>
                        <a:pt x="82" y="113"/>
                      </a:lnTo>
                      <a:lnTo>
                        <a:pt x="77" y="130"/>
                      </a:lnTo>
                      <a:lnTo>
                        <a:pt x="72" y="149"/>
                      </a:lnTo>
                      <a:lnTo>
                        <a:pt x="71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244240" y="2669400"/>
                  <a:ext cx="1005120" cy="641160"/>
                </a:xfrm>
                <a:custGeom>
                  <a:avLst/>
                  <a:gdLst/>
                  <a:ahLst/>
                  <a:rect l="l" t="t" r="r" b="b"/>
                  <a:pathLst>
                    <a:path w="681" h="591">
                      <a:moveTo>
                        <a:pt x="66" y="149"/>
                      </a:moveTo>
                      <a:lnTo>
                        <a:pt x="54" y="155"/>
                      </a:lnTo>
                      <a:lnTo>
                        <a:pt x="44" y="163"/>
                      </a:lnTo>
                      <a:lnTo>
                        <a:pt x="34" y="173"/>
                      </a:lnTo>
                      <a:lnTo>
                        <a:pt x="26" y="183"/>
                      </a:lnTo>
                      <a:lnTo>
                        <a:pt x="18" y="196"/>
                      </a:lnTo>
                      <a:lnTo>
                        <a:pt x="12" y="210"/>
                      </a:lnTo>
                      <a:lnTo>
                        <a:pt x="7" y="225"/>
                      </a:lnTo>
                      <a:lnTo>
                        <a:pt x="4" y="240"/>
                      </a:lnTo>
                      <a:lnTo>
                        <a:pt x="2" y="258"/>
                      </a:lnTo>
                      <a:lnTo>
                        <a:pt x="0" y="274"/>
                      </a:lnTo>
                      <a:lnTo>
                        <a:pt x="0" y="291"/>
                      </a:lnTo>
                      <a:lnTo>
                        <a:pt x="2" y="307"/>
                      </a:lnTo>
                      <a:lnTo>
                        <a:pt x="5" y="323"/>
                      </a:lnTo>
                      <a:lnTo>
                        <a:pt x="10" y="338"/>
                      </a:lnTo>
                      <a:lnTo>
                        <a:pt x="15" y="353"/>
                      </a:lnTo>
                      <a:lnTo>
                        <a:pt x="24" y="365"/>
                      </a:lnTo>
                      <a:lnTo>
                        <a:pt x="18" y="386"/>
                      </a:lnTo>
                      <a:lnTo>
                        <a:pt x="17" y="405"/>
                      </a:lnTo>
                      <a:lnTo>
                        <a:pt x="18" y="425"/>
                      </a:lnTo>
                      <a:lnTo>
                        <a:pt x="21" y="443"/>
                      </a:lnTo>
                      <a:lnTo>
                        <a:pt x="26" y="461"/>
                      </a:lnTo>
                      <a:lnTo>
                        <a:pt x="32" y="476"/>
                      </a:lnTo>
                      <a:lnTo>
                        <a:pt x="40" y="491"/>
                      </a:lnTo>
                      <a:lnTo>
                        <a:pt x="51" y="502"/>
                      </a:lnTo>
                      <a:lnTo>
                        <a:pt x="61" y="511"/>
                      </a:lnTo>
                      <a:lnTo>
                        <a:pt x="73" y="518"/>
                      </a:lnTo>
                      <a:lnTo>
                        <a:pt x="85" y="522"/>
                      </a:lnTo>
                      <a:lnTo>
                        <a:pt x="99" y="522"/>
                      </a:lnTo>
                      <a:lnTo>
                        <a:pt x="111" y="521"/>
                      </a:lnTo>
                      <a:lnTo>
                        <a:pt x="125" y="515"/>
                      </a:lnTo>
                      <a:lnTo>
                        <a:pt x="138" y="505"/>
                      </a:lnTo>
                      <a:lnTo>
                        <a:pt x="151" y="491"/>
                      </a:lnTo>
                      <a:lnTo>
                        <a:pt x="159" y="503"/>
                      </a:lnTo>
                      <a:lnTo>
                        <a:pt x="168" y="513"/>
                      </a:lnTo>
                      <a:lnTo>
                        <a:pt x="178" y="522"/>
                      </a:lnTo>
                      <a:lnTo>
                        <a:pt x="189" y="529"/>
                      </a:lnTo>
                      <a:lnTo>
                        <a:pt x="200" y="536"/>
                      </a:lnTo>
                      <a:lnTo>
                        <a:pt x="212" y="542"/>
                      </a:lnTo>
                      <a:lnTo>
                        <a:pt x="224" y="546"/>
                      </a:lnTo>
                      <a:lnTo>
                        <a:pt x="237" y="549"/>
                      </a:lnTo>
                      <a:lnTo>
                        <a:pt x="249" y="552"/>
                      </a:lnTo>
                      <a:lnTo>
                        <a:pt x="261" y="554"/>
                      </a:lnTo>
                      <a:lnTo>
                        <a:pt x="272" y="554"/>
                      </a:lnTo>
                      <a:lnTo>
                        <a:pt x="286" y="552"/>
                      </a:lnTo>
                      <a:lnTo>
                        <a:pt x="297" y="550"/>
                      </a:lnTo>
                      <a:lnTo>
                        <a:pt x="309" y="546"/>
                      </a:lnTo>
                      <a:lnTo>
                        <a:pt x="320" y="541"/>
                      </a:lnTo>
                      <a:lnTo>
                        <a:pt x="332" y="535"/>
                      </a:lnTo>
                      <a:lnTo>
                        <a:pt x="344" y="549"/>
                      </a:lnTo>
                      <a:lnTo>
                        <a:pt x="358" y="561"/>
                      </a:lnTo>
                      <a:lnTo>
                        <a:pt x="374" y="571"/>
                      </a:lnTo>
                      <a:lnTo>
                        <a:pt x="389" y="579"/>
                      </a:lnTo>
                      <a:lnTo>
                        <a:pt x="405" y="585"/>
                      </a:lnTo>
                      <a:lnTo>
                        <a:pt x="422" y="588"/>
                      </a:lnTo>
                      <a:lnTo>
                        <a:pt x="440" y="590"/>
                      </a:lnTo>
                      <a:lnTo>
                        <a:pt x="457" y="588"/>
                      </a:lnTo>
                      <a:lnTo>
                        <a:pt x="473" y="587"/>
                      </a:lnTo>
                      <a:lnTo>
                        <a:pt x="490" y="582"/>
                      </a:lnTo>
                      <a:lnTo>
                        <a:pt x="506" y="576"/>
                      </a:lnTo>
                      <a:lnTo>
                        <a:pt x="523" y="567"/>
                      </a:lnTo>
                      <a:lnTo>
                        <a:pt x="537" y="557"/>
                      </a:lnTo>
                      <a:lnTo>
                        <a:pt x="552" y="545"/>
                      </a:lnTo>
                      <a:lnTo>
                        <a:pt x="566" y="530"/>
                      </a:lnTo>
                      <a:lnTo>
                        <a:pt x="579" y="514"/>
                      </a:lnTo>
                      <a:lnTo>
                        <a:pt x="594" y="516"/>
                      </a:lnTo>
                      <a:lnTo>
                        <a:pt x="610" y="515"/>
                      </a:lnTo>
                      <a:lnTo>
                        <a:pt x="624" y="509"/>
                      </a:lnTo>
                      <a:lnTo>
                        <a:pt x="637" y="499"/>
                      </a:lnTo>
                      <a:lnTo>
                        <a:pt x="647" y="487"/>
                      </a:lnTo>
                      <a:lnTo>
                        <a:pt x="658" y="471"/>
                      </a:lnTo>
                      <a:lnTo>
                        <a:pt x="666" y="454"/>
                      </a:lnTo>
                      <a:lnTo>
                        <a:pt x="673" y="434"/>
                      </a:lnTo>
                      <a:lnTo>
                        <a:pt x="677" y="414"/>
                      </a:lnTo>
                      <a:lnTo>
                        <a:pt x="679" y="393"/>
                      </a:lnTo>
                      <a:lnTo>
                        <a:pt x="680" y="372"/>
                      </a:lnTo>
                      <a:lnTo>
                        <a:pt x="678" y="351"/>
                      </a:lnTo>
                      <a:lnTo>
                        <a:pt x="674" y="331"/>
                      </a:lnTo>
                      <a:lnTo>
                        <a:pt x="667" y="311"/>
                      </a:lnTo>
                      <a:lnTo>
                        <a:pt x="658" y="294"/>
                      </a:lnTo>
                      <a:lnTo>
                        <a:pt x="646" y="278"/>
                      </a:lnTo>
                      <a:lnTo>
                        <a:pt x="653" y="268"/>
                      </a:lnTo>
                      <a:lnTo>
                        <a:pt x="658" y="257"/>
                      </a:lnTo>
                      <a:lnTo>
                        <a:pt x="661" y="245"/>
                      </a:lnTo>
                      <a:lnTo>
                        <a:pt x="664" y="232"/>
                      </a:lnTo>
                      <a:lnTo>
                        <a:pt x="664" y="220"/>
                      </a:lnTo>
                      <a:lnTo>
                        <a:pt x="663" y="208"/>
                      </a:lnTo>
                      <a:lnTo>
                        <a:pt x="660" y="196"/>
                      </a:lnTo>
                      <a:lnTo>
                        <a:pt x="658" y="185"/>
                      </a:lnTo>
                      <a:lnTo>
                        <a:pt x="651" y="176"/>
                      </a:lnTo>
                      <a:lnTo>
                        <a:pt x="645" y="167"/>
                      </a:lnTo>
                      <a:lnTo>
                        <a:pt x="638" y="160"/>
                      </a:lnTo>
                      <a:lnTo>
                        <a:pt x="631" y="153"/>
                      </a:lnTo>
                      <a:lnTo>
                        <a:pt x="622" y="150"/>
                      </a:lnTo>
                      <a:lnTo>
                        <a:pt x="613" y="149"/>
                      </a:lnTo>
                      <a:lnTo>
                        <a:pt x="603" y="150"/>
                      </a:lnTo>
                      <a:lnTo>
                        <a:pt x="594" y="154"/>
                      </a:lnTo>
                      <a:lnTo>
                        <a:pt x="587" y="144"/>
                      </a:lnTo>
                      <a:lnTo>
                        <a:pt x="579" y="133"/>
                      </a:lnTo>
                      <a:lnTo>
                        <a:pt x="569" y="123"/>
                      </a:lnTo>
                      <a:lnTo>
                        <a:pt x="560" y="113"/>
                      </a:lnTo>
                      <a:lnTo>
                        <a:pt x="550" y="105"/>
                      </a:lnTo>
                      <a:lnTo>
                        <a:pt x="540" y="98"/>
                      </a:lnTo>
                      <a:lnTo>
                        <a:pt x="528" y="92"/>
                      </a:lnTo>
                      <a:lnTo>
                        <a:pt x="518" y="86"/>
                      </a:lnTo>
                      <a:lnTo>
                        <a:pt x="506" y="83"/>
                      </a:lnTo>
                      <a:lnTo>
                        <a:pt x="494" y="80"/>
                      </a:lnTo>
                      <a:lnTo>
                        <a:pt x="482" y="79"/>
                      </a:lnTo>
                      <a:lnTo>
                        <a:pt x="473" y="77"/>
                      </a:lnTo>
                      <a:lnTo>
                        <a:pt x="461" y="79"/>
                      </a:lnTo>
                      <a:lnTo>
                        <a:pt x="451" y="81"/>
                      </a:lnTo>
                      <a:lnTo>
                        <a:pt x="440" y="84"/>
                      </a:lnTo>
                      <a:lnTo>
                        <a:pt x="430" y="88"/>
                      </a:lnTo>
                      <a:lnTo>
                        <a:pt x="420" y="68"/>
                      </a:lnTo>
                      <a:lnTo>
                        <a:pt x="410" y="50"/>
                      </a:lnTo>
                      <a:lnTo>
                        <a:pt x="396" y="35"/>
                      </a:lnTo>
                      <a:lnTo>
                        <a:pt x="383" y="22"/>
                      </a:lnTo>
                      <a:lnTo>
                        <a:pt x="368" y="13"/>
                      </a:lnTo>
                      <a:lnTo>
                        <a:pt x="352" y="6"/>
                      </a:lnTo>
                      <a:lnTo>
                        <a:pt x="336" y="2"/>
                      </a:lnTo>
                      <a:lnTo>
                        <a:pt x="321" y="0"/>
                      </a:lnTo>
                      <a:lnTo>
                        <a:pt x="303" y="2"/>
                      </a:lnTo>
                      <a:lnTo>
                        <a:pt x="288" y="6"/>
                      </a:lnTo>
                      <a:lnTo>
                        <a:pt x="272" y="14"/>
                      </a:lnTo>
                      <a:lnTo>
                        <a:pt x="257" y="23"/>
                      </a:lnTo>
                      <a:lnTo>
                        <a:pt x="243" y="36"/>
                      </a:lnTo>
                      <a:lnTo>
                        <a:pt x="231" y="52"/>
                      </a:lnTo>
                      <a:lnTo>
                        <a:pt x="220" y="70"/>
                      </a:lnTo>
                      <a:lnTo>
                        <a:pt x="212" y="91"/>
                      </a:lnTo>
                      <a:lnTo>
                        <a:pt x="203" y="78"/>
                      </a:lnTo>
                      <a:lnTo>
                        <a:pt x="193" y="67"/>
                      </a:lnTo>
                      <a:lnTo>
                        <a:pt x="182" y="58"/>
                      </a:lnTo>
                      <a:lnTo>
                        <a:pt x="172" y="52"/>
                      </a:lnTo>
                      <a:lnTo>
                        <a:pt x="160" y="48"/>
                      </a:lnTo>
                      <a:lnTo>
                        <a:pt x="148" y="47"/>
                      </a:lnTo>
                      <a:lnTo>
                        <a:pt x="137" y="48"/>
                      </a:lnTo>
                      <a:lnTo>
                        <a:pt x="126" y="49"/>
                      </a:lnTo>
                      <a:lnTo>
                        <a:pt x="114" y="54"/>
                      </a:lnTo>
                      <a:lnTo>
                        <a:pt x="104" y="61"/>
                      </a:lnTo>
                      <a:lnTo>
                        <a:pt x="94" y="70"/>
                      </a:lnTo>
                      <a:lnTo>
                        <a:pt x="86" y="80"/>
                      </a:lnTo>
                      <a:lnTo>
                        <a:pt x="78" y="93"/>
                      </a:lnTo>
                      <a:lnTo>
                        <a:pt x="73" y="107"/>
                      </a:lnTo>
                      <a:lnTo>
                        <a:pt x="69" y="123"/>
                      </a:lnTo>
                      <a:lnTo>
                        <a:pt x="68" y="140"/>
                      </a:lnTo>
                      <a:lnTo>
                        <a:pt x="66" y="141"/>
                      </a:lnTo>
                      <a:lnTo>
                        <a:pt x="66" y="141"/>
                      </a:lnTo>
                      <a:lnTo>
                        <a:pt x="66" y="141"/>
                      </a:lnTo>
                      <a:lnTo>
                        <a:pt x="66" y="141"/>
                      </a:lnTo>
                      <a:lnTo>
                        <a:pt x="66" y="144"/>
                      </a:lnTo>
                      <a:lnTo>
                        <a:pt x="66" y="144"/>
                      </a:lnTo>
                      <a:lnTo>
                        <a:pt x="66" y="145"/>
                      </a:lnTo>
                      <a:lnTo>
                        <a:pt x="66" y="145"/>
                      </a:lnTo>
                      <a:lnTo>
                        <a:pt x="66" y="147"/>
                      </a:lnTo>
                      <a:lnTo>
                        <a:pt x="66" y="147"/>
                      </a:lnTo>
                      <a:lnTo>
                        <a:pt x="66" y="148"/>
                      </a:lnTo>
                      <a:lnTo>
                        <a:pt x="66" y="148"/>
                      </a:lnTo>
                      <a:lnTo>
                        <a:pt x="66" y="149"/>
                      </a:lnTo>
                      <a:lnTo>
                        <a:pt x="66" y="149"/>
                      </a:lnTo>
                      <a:lnTo>
                        <a:pt x="66" y="149"/>
                      </a:lnTo>
                      <a:lnTo>
                        <a:pt x="66" y="149"/>
                      </a:lnTo>
                      <a:lnTo>
                        <a:pt x="66" y="14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337480" y="2867040"/>
                <a:ext cx="783720" cy="276840"/>
                <a:chOff x="2337480" y="2867040"/>
                <a:chExt cx="783720" cy="2768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337480" y="2900520"/>
                  <a:ext cx="783720" cy="203760"/>
                </a:xfrm>
                <a:custGeom>
                  <a:avLst/>
                  <a:gdLst/>
                  <a:ahLst/>
                  <a:rect l="l" t="t" r="r" b="b"/>
                  <a:pathLst>
                    <a:path w="531" h="188">
                      <a:moveTo>
                        <a:pt x="0" y="187"/>
                      </a:moveTo>
                      <a:lnTo>
                        <a:pt x="530" y="187"/>
                      </a:lnTo>
                      <a:lnTo>
                        <a:pt x="530" y="0"/>
                      </a:lnTo>
                      <a:lnTo>
                        <a:pt x="0" y="0"/>
                      </a:lnTo>
                      <a:lnTo>
                        <a:pt x="0" y="187"/>
                      </a:lnTo>
                      <a:lnTo>
                        <a:pt x="0" y="18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00840" y="2867040"/>
                  <a:ext cx="68436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434880"/>
                      <a:tab algn="l" pos="870120"/>
                      <a:tab algn="l" pos="1305000"/>
                      <a:tab algn="l" pos="1739880"/>
                      <a:tab algn="l" pos="2174760"/>
                      <a:tab algn="l" pos="2610000"/>
                      <a:tab algn="l" pos="3044880"/>
                      <a:tab algn="l" pos="3479760"/>
                      <a:tab algn="l" pos="3914640"/>
                      <a:tab algn="l" pos="4349880"/>
                      <a:tab algn="l" pos="4784760"/>
                      <a:tab algn="l" pos="5219640"/>
                      <a:tab algn="l" pos="5654520"/>
                      <a:tab algn="l" pos="6089760"/>
                      <a:tab algn="l" pos="6524640"/>
                      <a:tab algn="l" pos="6959520"/>
                      <a:tab algn="l" pos="7394400"/>
                      <a:tab algn="l" pos="7829640"/>
                      <a:tab algn="l" pos="8264520"/>
                      <a:tab algn="l" pos="8699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TML/XML</a:t>
                  </a:r>
                  <a:endParaRPr b="0" lang="en-US" sz="9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434880"/>
                      <a:tab algn="l" pos="870120"/>
                      <a:tab algn="l" pos="1305000"/>
                      <a:tab algn="l" pos="1739880"/>
                      <a:tab algn="l" pos="2174760"/>
                      <a:tab algn="l" pos="2610000"/>
                      <a:tab algn="l" pos="3044880"/>
                      <a:tab algn="l" pos="3479760"/>
                      <a:tab algn="l" pos="3914640"/>
                      <a:tab algn="l" pos="4349880"/>
                      <a:tab algn="l" pos="4784760"/>
                      <a:tab algn="l" pos="5219640"/>
                      <a:tab algn="l" pos="5654520"/>
                      <a:tab algn="l" pos="6089760"/>
                      <a:tab algn="l" pos="6524640"/>
                      <a:tab algn="l" pos="6959520"/>
                      <a:tab algn="l" pos="7394400"/>
                      <a:tab algn="l" pos="7829640"/>
                      <a:tab algn="l" pos="8264520"/>
                      <a:tab algn="l" pos="8699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TTP/S</a:t>
                  </a:r>
                  <a:endParaRPr b="0" lang="en-US" sz="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" name=""/>
            <p:cNvSpPr/>
            <p:nvPr/>
          </p:nvSpPr>
          <p:spPr>
            <a:xfrm>
              <a:off x="857160" y="4289400"/>
              <a:ext cx="1143000" cy="228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1d528d"/>
              </a:solidFill>
              <a:miter/>
            </a:ln>
            <a:effectLst>
              <a:outerShdw dist="17819" dir="2700000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ap Client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154240" y="3857760"/>
              <a:ext cx="1066320" cy="723240"/>
              <a:chOff x="2154240" y="3857760"/>
              <a:chExt cx="1066320" cy="723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154240" y="3857760"/>
                <a:ext cx="1066320" cy="723240"/>
                <a:chOff x="2154240" y="3857760"/>
                <a:chExt cx="1066320" cy="723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171880" y="3877200"/>
                  <a:ext cx="1048680" cy="703800"/>
                </a:xfrm>
                <a:custGeom>
                  <a:avLst/>
                  <a:gdLst/>
                  <a:ahLst/>
                  <a:rect l="l" t="t" r="r" b="b"/>
                  <a:pathLst>
                    <a:path w="711" h="649">
                      <a:moveTo>
                        <a:pt x="71" y="167"/>
                      </a:moveTo>
                      <a:lnTo>
                        <a:pt x="58" y="173"/>
                      </a:lnTo>
                      <a:lnTo>
                        <a:pt x="46" y="181"/>
                      </a:lnTo>
                      <a:lnTo>
                        <a:pt x="36" y="191"/>
                      </a:lnTo>
                      <a:lnTo>
                        <a:pt x="27" y="202"/>
                      </a:lnTo>
                      <a:lnTo>
                        <a:pt x="18" y="216"/>
                      </a:lnTo>
                      <a:lnTo>
                        <a:pt x="12" y="230"/>
                      </a:lnTo>
                      <a:lnTo>
                        <a:pt x="7" y="247"/>
                      </a:lnTo>
                      <a:lnTo>
                        <a:pt x="3" y="262"/>
                      </a:lnTo>
                      <a:lnTo>
                        <a:pt x="1" y="280"/>
                      </a:lnTo>
                      <a:lnTo>
                        <a:pt x="0" y="297"/>
                      </a:lnTo>
                      <a:lnTo>
                        <a:pt x="0" y="315"/>
                      </a:lnTo>
                      <a:lnTo>
                        <a:pt x="3" y="333"/>
                      </a:lnTo>
                      <a:lnTo>
                        <a:pt x="6" y="351"/>
                      </a:lnTo>
                      <a:lnTo>
                        <a:pt x="11" y="366"/>
                      </a:lnTo>
                      <a:lnTo>
                        <a:pt x="19" y="382"/>
                      </a:lnTo>
                      <a:lnTo>
                        <a:pt x="28" y="396"/>
                      </a:lnTo>
                      <a:lnTo>
                        <a:pt x="21" y="420"/>
                      </a:lnTo>
                      <a:lnTo>
                        <a:pt x="19" y="443"/>
                      </a:lnTo>
                      <a:lnTo>
                        <a:pt x="19" y="465"/>
                      </a:lnTo>
                      <a:lnTo>
                        <a:pt x="22" y="487"/>
                      </a:lnTo>
                      <a:lnTo>
                        <a:pt x="27" y="507"/>
                      </a:lnTo>
                      <a:lnTo>
                        <a:pt x="34" y="524"/>
                      </a:lnTo>
                      <a:lnTo>
                        <a:pt x="44" y="541"/>
                      </a:lnTo>
                      <a:lnTo>
                        <a:pt x="55" y="553"/>
                      </a:lnTo>
                      <a:lnTo>
                        <a:pt x="66" y="565"/>
                      </a:lnTo>
                      <a:lnTo>
                        <a:pt x="79" y="573"/>
                      </a:lnTo>
                      <a:lnTo>
                        <a:pt x="93" y="578"/>
                      </a:lnTo>
                      <a:lnTo>
                        <a:pt x="107" y="579"/>
                      </a:lnTo>
                      <a:lnTo>
                        <a:pt x="121" y="577"/>
                      </a:lnTo>
                      <a:lnTo>
                        <a:pt x="135" y="570"/>
                      </a:lnTo>
                      <a:lnTo>
                        <a:pt x="149" y="560"/>
                      </a:lnTo>
                      <a:lnTo>
                        <a:pt x="164" y="544"/>
                      </a:lnTo>
                      <a:lnTo>
                        <a:pt x="172" y="557"/>
                      </a:lnTo>
                      <a:lnTo>
                        <a:pt x="182" y="568"/>
                      </a:lnTo>
                      <a:lnTo>
                        <a:pt x="192" y="578"/>
                      </a:lnTo>
                      <a:lnTo>
                        <a:pt x="203" y="586"/>
                      </a:lnTo>
                      <a:lnTo>
                        <a:pt x="213" y="594"/>
                      </a:lnTo>
                      <a:lnTo>
                        <a:pt x="225" y="599"/>
                      </a:lnTo>
                      <a:lnTo>
                        <a:pt x="237" y="603"/>
                      </a:lnTo>
                      <a:lnTo>
                        <a:pt x="249" y="606"/>
                      </a:lnTo>
                      <a:lnTo>
                        <a:pt x="261" y="609"/>
                      </a:lnTo>
                      <a:lnTo>
                        <a:pt x="273" y="609"/>
                      </a:lnTo>
                      <a:lnTo>
                        <a:pt x="285" y="609"/>
                      </a:lnTo>
                      <a:lnTo>
                        <a:pt x="297" y="606"/>
                      </a:lnTo>
                      <a:lnTo>
                        <a:pt x="309" y="603"/>
                      </a:lnTo>
                      <a:lnTo>
                        <a:pt x="320" y="598"/>
                      </a:lnTo>
                      <a:lnTo>
                        <a:pt x="332" y="592"/>
                      </a:lnTo>
                      <a:lnTo>
                        <a:pt x="344" y="584"/>
                      </a:lnTo>
                      <a:lnTo>
                        <a:pt x="358" y="601"/>
                      </a:lnTo>
                      <a:lnTo>
                        <a:pt x="373" y="614"/>
                      </a:lnTo>
                      <a:lnTo>
                        <a:pt x="389" y="626"/>
                      </a:lnTo>
                      <a:lnTo>
                        <a:pt x="405" y="635"/>
                      </a:lnTo>
                      <a:lnTo>
                        <a:pt x="421" y="642"/>
                      </a:lnTo>
                      <a:lnTo>
                        <a:pt x="438" y="645"/>
                      </a:lnTo>
                      <a:lnTo>
                        <a:pt x="456" y="648"/>
                      </a:lnTo>
                      <a:lnTo>
                        <a:pt x="474" y="646"/>
                      </a:lnTo>
                      <a:lnTo>
                        <a:pt x="489" y="644"/>
                      </a:lnTo>
                      <a:lnTo>
                        <a:pt x="507" y="639"/>
                      </a:lnTo>
                      <a:lnTo>
                        <a:pt x="523" y="633"/>
                      </a:lnTo>
                      <a:lnTo>
                        <a:pt x="540" y="623"/>
                      </a:lnTo>
                      <a:lnTo>
                        <a:pt x="555" y="611"/>
                      </a:lnTo>
                      <a:lnTo>
                        <a:pt x="571" y="597"/>
                      </a:lnTo>
                      <a:lnTo>
                        <a:pt x="585" y="581"/>
                      </a:lnTo>
                      <a:lnTo>
                        <a:pt x="600" y="562"/>
                      </a:lnTo>
                      <a:lnTo>
                        <a:pt x="616" y="566"/>
                      </a:lnTo>
                      <a:lnTo>
                        <a:pt x="633" y="564"/>
                      </a:lnTo>
                      <a:lnTo>
                        <a:pt x="648" y="558"/>
                      </a:lnTo>
                      <a:lnTo>
                        <a:pt x="664" y="548"/>
                      </a:lnTo>
                      <a:lnTo>
                        <a:pt x="675" y="536"/>
                      </a:lnTo>
                      <a:lnTo>
                        <a:pt x="687" y="520"/>
                      </a:lnTo>
                      <a:lnTo>
                        <a:pt x="695" y="501"/>
                      </a:lnTo>
                      <a:lnTo>
                        <a:pt x="703" y="481"/>
                      </a:lnTo>
                      <a:lnTo>
                        <a:pt x="707" y="459"/>
                      </a:lnTo>
                      <a:lnTo>
                        <a:pt x="710" y="438"/>
                      </a:lnTo>
                      <a:lnTo>
                        <a:pt x="710" y="416"/>
                      </a:lnTo>
                      <a:lnTo>
                        <a:pt x="708" y="392"/>
                      </a:lnTo>
                      <a:lnTo>
                        <a:pt x="703" y="371"/>
                      </a:lnTo>
                      <a:lnTo>
                        <a:pt x="694" y="349"/>
                      </a:lnTo>
                      <a:lnTo>
                        <a:pt x="684" y="330"/>
                      </a:lnTo>
                      <a:lnTo>
                        <a:pt x="671" y="312"/>
                      </a:lnTo>
                      <a:lnTo>
                        <a:pt x="678" y="300"/>
                      </a:lnTo>
                      <a:lnTo>
                        <a:pt x="685" y="287"/>
                      </a:lnTo>
                      <a:lnTo>
                        <a:pt x="688" y="273"/>
                      </a:lnTo>
                      <a:lnTo>
                        <a:pt x="691" y="259"/>
                      </a:lnTo>
                      <a:lnTo>
                        <a:pt x="691" y="245"/>
                      </a:lnTo>
                      <a:lnTo>
                        <a:pt x="690" y="231"/>
                      </a:lnTo>
                      <a:lnTo>
                        <a:pt x="687" y="218"/>
                      </a:lnTo>
                      <a:lnTo>
                        <a:pt x="683" y="204"/>
                      </a:lnTo>
                      <a:lnTo>
                        <a:pt x="677" y="194"/>
                      </a:lnTo>
                      <a:lnTo>
                        <a:pt x="671" y="183"/>
                      </a:lnTo>
                      <a:lnTo>
                        <a:pt x="663" y="174"/>
                      </a:lnTo>
                      <a:lnTo>
                        <a:pt x="655" y="168"/>
                      </a:lnTo>
                      <a:lnTo>
                        <a:pt x="645" y="164"/>
                      </a:lnTo>
                      <a:lnTo>
                        <a:pt x="635" y="162"/>
                      </a:lnTo>
                      <a:lnTo>
                        <a:pt x="625" y="164"/>
                      </a:lnTo>
                      <a:lnTo>
                        <a:pt x="615" y="168"/>
                      </a:lnTo>
                      <a:lnTo>
                        <a:pt x="606" y="156"/>
                      </a:lnTo>
                      <a:lnTo>
                        <a:pt x="598" y="144"/>
                      </a:lnTo>
                      <a:lnTo>
                        <a:pt x="588" y="134"/>
                      </a:lnTo>
                      <a:lnTo>
                        <a:pt x="580" y="123"/>
                      </a:lnTo>
                      <a:lnTo>
                        <a:pt x="568" y="115"/>
                      </a:lnTo>
                      <a:lnTo>
                        <a:pt x="559" y="107"/>
                      </a:lnTo>
                      <a:lnTo>
                        <a:pt x="548" y="101"/>
                      </a:lnTo>
                      <a:lnTo>
                        <a:pt x="538" y="95"/>
                      </a:lnTo>
                      <a:lnTo>
                        <a:pt x="526" y="92"/>
                      </a:lnTo>
                      <a:lnTo>
                        <a:pt x="515" y="90"/>
                      </a:lnTo>
                      <a:lnTo>
                        <a:pt x="503" y="89"/>
                      </a:lnTo>
                      <a:lnTo>
                        <a:pt x="493" y="89"/>
                      </a:lnTo>
                      <a:lnTo>
                        <a:pt x="481" y="91"/>
                      </a:lnTo>
                      <a:lnTo>
                        <a:pt x="469" y="94"/>
                      </a:lnTo>
                      <a:lnTo>
                        <a:pt x="457" y="98"/>
                      </a:lnTo>
                      <a:lnTo>
                        <a:pt x="448" y="103"/>
                      </a:lnTo>
                      <a:lnTo>
                        <a:pt x="437" y="79"/>
                      </a:lnTo>
                      <a:lnTo>
                        <a:pt x="426" y="59"/>
                      </a:lnTo>
                      <a:lnTo>
                        <a:pt x="413" y="41"/>
                      </a:lnTo>
                      <a:lnTo>
                        <a:pt x="399" y="26"/>
                      </a:lnTo>
                      <a:lnTo>
                        <a:pt x="383" y="15"/>
                      </a:lnTo>
                      <a:lnTo>
                        <a:pt x="368" y="7"/>
                      </a:lnTo>
                      <a:lnTo>
                        <a:pt x="351" y="2"/>
                      </a:lnTo>
                      <a:lnTo>
                        <a:pt x="335" y="0"/>
                      </a:lnTo>
                      <a:lnTo>
                        <a:pt x="317" y="2"/>
                      </a:lnTo>
                      <a:lnTo>
                        <a:pt x="301" y="7"/>
                      </a:lnTo>
                      <a:lnTo>
                        <a:pt x="285" y="15"/>
                      </a:lnTo>
                      <a:lnTo>
                        <a:pt x="270" y="26"/>
                      </a:lnTo>
                      <a:lnTo>
                        <a:pt x="256" y="41"/>
                      </a:lnTo>
                      <a:lnTo>
                        <a:pt x="243" y="59"/>
                      </a:lnTo>
                      <a:lnTo>
                        <a:pt x="231" y="79"/>
                      </a:lnTo>
                      <a:lnTo>
                        <a:pt x="223" y="103"/>
                      </a:lnTo>
                      <a:lnTo>
                        <a:pt x="212" y="88"/>
                      </a:lnTo>
                      <a:lnTo>
                        <a:pt x="202" y="75"/>
                      </a:lnTo>
                      <a:lnTo>
                        <a:pt x="190" y="65"/>
                      </a:lnTo>
                      <a:lnTo>
                        <a:pt x="180" y="59"/>
                      </a:lnTo>
                      <a:lnTo>
                        <a:pt x="167" y="56"/>
                      </a:lnTo>
                      <a:lnTo>
                        <a:pt x="155" y="54"/>
                      </a:lnTo>
                      <a:lnTo>
                        <a:pt x="143" y="55"/>
                      </a:lnTo>
                      <a:lnTo>
                        <a:pt x="132" y="58"/>
                      </a:lnTo>
                      <a:lnTo>
                        <a:pt x="120" y="65"/>
                      </a:lnTo>
                      <a:lnTo>
                        <a:pt x="108" y="73"/>
                      </a:lnTo>
                      <a:lnTo>
                        <a:pt x="99" y="84"/>
                      </a:lnTo>
                      <a:lnTo>
                        <a:pt x="91" y="96"/>
                      </a:lnTo>
                      <a:lnTo>
                        <a:pt x="83" y="112"/>
                      </a:lnTo>
                      <a:lnTo>
                        <a:pt x="77" y="128"/>
                      </a:lnTo>
                      <a:lnTo>
                        <a:pt x="73" y="148"/>
                      </a:lnTo>
                      <a:lnTo>
                        <a:pt x="72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  <a:lnTo>
                        <a:pt x="71" y="16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154240" y="3857760"/>
                  <a:ext cx="1048680" cy="705960"/>
                </a:xfrm>
                <a:custGeom>
                  <a:avLst/>
                  <a:gdLst/>
                  <a:ahLst/>
                  <a:rect l="l" t="t" r="r" b="b"/>
                  <a:pathLst>
                    <a:path w="711" h="651">
                      <a:moveTo>
                        <a:pt x="70" y="168"/>
                      </a:moveTo>
                      <a:lnTo>
                        <a:pt x="56" y="174"/>
                      </a:lnTo>
                      <a:lnTo>
                        <a:pt x="45" y="182"/>
                      </a:lnTo>
                      <a:lnTo>
                        <a:pt x="34" y="193"/>
                      </a:lnTo>
                      <a:lnTo>
                        <a:pt x="26" y="204"/>
                      </a:lnTo>
                      <a:lnTo>
                        <a:pt x="17" y="218"/>
                      </a:lnTo>
                      <a:lnTo>
                        <a:pt x="12" y="232"/>
                      </a:lnTo>
                      <a:lnTo>
                        <a:pt x="7" y="248"/>
                      </a:lnTo>
                      <a:lnTo>
                        <a:pt x="4" y="264"/>
                      </a:lnTo>
                      <a:lnTo>
                        <a:pt x="1" y="281"/>
                      </a:lnTo>
                      <a:lnTo>
                        <a:pt x="0" y="299"/>
                      </a:lnTo>
                      <a:lnTo>
                        <a:pt x="0" y="317"/>
                      </a:lnTo>
                      <a:lnTo>
                        <a:pt x="3" y="334"/>
                      </a:lnTo>
                      <a:lnTo>
                        <a:pt x="6" y="351"/>
                      </a:lnTo>
                      <a:lnTo>
                        <a:pt x="12" y="367"/>
                      </a:lnTo>
                      <a:lnTo>
                        <a:pt x="19" y="383"/>
                      </a:lnTo>
                      <a:lnTo>
                        <a:pt x="28" y="397"/>
                      </a:lnTo>
                      <a:lnTo>
                        <a:pt x="21" y="421"/>
                      </a:lnTo>
                      <a:lnTo>
                        <a:pt x="19" y="444"/>
                      </a:lnTo>
                      <a:lnTo>
                        <a:pt x="19" y="466"/>
                      </a:lnTo>
                      <a:lnTo>
                        <a:pt x="23" y="488"/>
                      </a:lnTo>
                      <a:lnTo>
                        <a:pt x="27" y="508"/>
                      </a:lnTo>
                      <a:lnTo>
                        <a:pt x="34" y="526"/>
                      </a:lnTo>
                      <a:lnTo>
                        <a:pt x="44" y="542"/>
                      </a:lnTo>
                      <a:lnTo>
                        <a:pt x="55" y="555"/>
                      </a:lnTo>
                      <a:lnTo>
                        <a:pt x="66" y="567"/>
                      </a:lnTo>
                      <a:lnTo>
                        <a:pt x="79" y="575"/>
                      </a:lnTo>
                      <a:lnTo>
                        <a:pt x="93" y="581"/>
                      </a:lnTo>
                      <a:lnTo>
                        <a:pt x="106" y="581"/>
                      </a:lnTo>
                      <a:lnTo>
                        <a:pt x="120" y="579"/>
                      </a:lnTo>
                      <a:lnTo>
                        <a:pt x="135" y="572"/>
                      </a:lnTo>
                      <a:lnTo>
                        <a:pt x="149" y="562"/>
                      </a:lnTo>
                      <a:lnTo>
                        <a:pt x="163" y="546"/>
                      </a:lnTo>
                      <a:lnTo>
                        <a:pt x="172" y="558"/>
                      </a:lnTo>
                      <a:lnTo>
                        <a:pt x="182" y="569"/>
                      </a:lnTo>
                      <a:lnTo>
                        <a:pt x="192" y="579"/>
                      </a:lnTo>
                      <a:lnTo>
                        <a:pt x="202" y="587"/>
                      </a:lnTo>
                      <a:lnTo>
                        <a:pt x="213" y="595"/>
                      </a:lnTo>
                      <a:lnTo>
                        <a:pt x="225" y="601"/>
                      </a:lnTo>
                      <a:lnTo>
                        <a:pt x="237" y="605"/>
                      </a:lnTo>
                      <a:lnTo>
                        <a:pt x="249" y="608"/>
                      </a:lnTo>
                      <a:lnTo>
                        <a:pt x="260" y="610"/>
                      </a:lnTo>
                      <a:lnTo>
                        <a:pt x="272" y="610"/>
                      </a:lnTo>
                      <a:lnTo>
                        <a:pt x="284" y="610"/>
                      </a:lnTo>
                      <a:lnTo>
                        <a:pt x="296" y="608"/>
                      </a:lnTo>
                      <a:lnTo>
                        <a:pt x="308" y="604"/>
                      </a:lnTo>
                      <a:lnTo>
                        <a:pt x="320" y="600"/>
                      </a:lnTo>
                      <a:lnTo>
                        <a:pt x="332" y="594"/>
                      </a:lnTo>
                      <a:lnTo>
                        <a:pt x="344" y="586"/>
                      </a:lnTo>
                      <a:lnTo>
                        <a:pt x="358" y="603"/>
                      </a:lnTo>
                      <a:lnTo>
                        <a:pt x="373" y="616"/>
                      </a:lnTo>
                      <a:lnTo>
                        <a:pt x="389" y="628"/>
                      </a:lnTo>
                      <a:lnTo>
                        <a:pt x="406" y="637"/>
                      </a:lnTo>
                      <a:lnTo>
                        <a:pt x="421" y="644"/>
                      </a:lnTo>
                      <a:lnTo>
                        <a:pt x="439" y="647"/>
                      </a:lnTo>
                      <a:lnTo>
                        <a:pt x="456" y="650"/>
                      </a:lnTo>
                      <a:lnTo>
                        <a:pt x="474" y="648"/>
                      </a:lnTo>
                      <a:lnTo>
                        <a:pt x="489" y="647"/>
                      </a:lnTo>
                      <a:lnTo>
                        <a:pt x="507" y="641"/>
                      </a:lnTo>
                      <a:lnTo>
                        <a:pt x="523" y="635"/>
                      </a:lnTo>
                      <a:lnTo>
                        <a:pt x="540" y="625"/>
                      </a:lnTo>
                      <a:lnTo>
                        <a:pt x="555" y="614"/>
                      </a:lnTo>
                      <a:lnTo>
                        <a:pt x="571" y="599"/>
                      </a:lnTo>
                      <a:lnTo>
                        <a:pt x="585" y="582"/>
                      </a:lnTo>
                      <a:lnTo>
                        <a:pt x="600" y="563"/>
                      </a:lnTo>
                      <a:lnTo>
                        <a:pt x="616" y="568"/>
                      </a:lnTo>
                      <a:lnTo>
                        <a:pt x="633" y="565"/>
                      </a:lnTo>
                      <a:lnTo>
                        <a:pt x="649" y="560"/>
                      </a:lnTo>
                      <a:lnTo>
                        <a:pt x="664" y="549"/>
                      </a:lnTo>
                      <a:lnTo>
                        <a:pt x="676" y="538"/>
                      </a:lnTo>
                      <a:lnTo>
                        <a:pt x="687" y="521"/>
                      </a:lnTo>
                      <a:lnTo>
                        <a:pt x="695" y="503"/>
                      </a:lnTo>
                      <a:lnTo>
                        <a:pt x="704" y="482"/>
                      </a:lnTo>
                      <a:lnTo>
                        <a:pt x="707" y="461"/>
                      </a:lnTo>
                      <a:lnTo>
                        <a:pt x="710" y="439"/>
                      </a:lnTo>
                      <a:lnTo>
                        <a:pt x="710" y="417"/>
                      </a:lnTo>
                      <a:lnTo>
                        <a:pt x="708" y="394"/>
                      </a:lnTo>
                      <a:lnTo>
                        <a:pt x="703" y="372"/>
                      </a:lnTo>
                      <a:lnTo>
                        <a:pt x="695" y="351"/>
                      </a:lnTo>
                      <a:lnTo>
                        <a:pt x="684" y="332"/>
                      </a:lnTo>
                      <a:lnTo>
                        <a:pt x="671" y="313"/>
                      </a:lnTo>
                      <a:lnTo>
                        <a:pt x="678" y="302"/>
                      </a:lnTo>
                      <a:lnTo>
                        <a:pt x="685" y="289"/>
                      </a:lnTo>
                      <a:lnTo>
                        <a:pt x="689" y="275"/>
                      </a:lnTo>
                      <a:lnTo>
                        <a:pt x="691" y="260"/>
                      </a:lnTo>
                      <a:lnTo>
                        <a:pt x="691" y="246"/>
                      </a:lnTo>
                      <a:lnTo>
                        <a:pt x="691" y="233"/>
                      </a:lnTo>
                      <a:lnTo>
                        <a:pt x="687" y="219"/>
                      </a:lnTo>
                      <a:lnTo>
                        <a:pt x="684" y="206"/>
                      </a:lnTo>
                      <a:lnTo>
                        <a:pt x="678" y="195"/>
                      </a:lnTo>
                      <a:lnTo>
                        <a:pt x="671" y="185"/>
                      </a:lnTo>
                      <a:lnTo>
                        <a:pt x="663" y="176"/>
                      </a:lnTo>
                      <a:lnTo>
                        <a:pt x="655" y="169"/>
                      </a:lnTo>
                      <a:lnTo>
                        <a:pt x="645" y="166"/>
                      </a:lnTo>
                      <a:lnTo>
                        <a:pt x="635" y="164"/>
                      </a:lnTo>
                      <a:lnTo>
                        <a:pt x="625" y="166"/>
                      </a:lnTo>
                      <a:lnTo>
                        <a:pt x="615" y="171"/>
                      </a:lnTo>
                      <a:lnTo>
                        <a:pt x="606" y="158"/>
                      </a:lnTo>
                      <a:lnTo>
                        <a:pt x="598" y="146"/>
                      </a:lnTo>
                      <a:lnTo>
                        <a:pt x="588" y="135"/>
                      </a:lnTo>
                      <a:lnTo>
                        <a:pt x="580" y="124"/>
                      </a:lnTo>
                      <a:lnTo>
                        <a:pt x="569" y="116"/>
                      </a:lnTo>
                      <a:lnTo>
                        <a:pt x="559" y="108"/>
                      </a:lnTo>
                      <a:lnTo>
                        <a:pt x="548" y="101"/>
                      </a:lnTo>
                      <a:lnTo>
                        <a:pt x="538" y="95"/>
                      </a:lnTo>
                      <a:lnTo>
                        <a:pt x="526" y="93"/>
                      </a:lnTo>
                      <a:lnTo>
                        <a:pt x="515" y="90"/>
                      </a:lnTo>
                      <a:lnTo>
                        <a:pt x="503" y="89"/>
                      </a:lnTo>
                      <a:lnTo>
                        <a:pt x="493" y="89"/>
                      </a:lnTo>
                      <a:lnTo>
                        <a:pt x="481" y="91"/>
                      </a:lnTo>
                      <a:lnTo>
                        <a:pt x="469" y="94"/>
                      </a:lnTo>
                      <a:lnTo>
                        <a:pt x="458" y="99"/>
                      </a:lnTo>
                      <a:lnTo>
                        <a:pt x="448" y="103"/>
                      </a:lnTo>
                      <a:lnTo>
                        <a:pt x="437" y="80"/>
                      </a:lnTo>
                      <a:lnTo>
                        <a:pt x="426" y="59"/>
                      </a:lnTo>
                      <a:lnTo>
                        <a:pt x="413" y="41"/>
                      </a:lnTo>
                      <a:lnTo>
                        <a:pt x="399" y="26"/>
                      </a:lnTo>
                      <a:lnTo>
                        <a:pt x="383" y="15"/>
                      </a:lnTo>
                      <a:lnTo>
                        <a:pt x="367" y="8"/>
                      </a:lnTo>
                      <a:lnTo>
                        <a:pt x="350" y="2"/>
                      </a:lnTo>
                      <a:lnTo>
                        <a:pt x="334" y="0"/>
                      </a:lnTo>
                      <a:lnTo>
                        <a:pt x="316" y="2"/>
                      </a:lnTo>
                      <a:lnTo>
                        <a:pt x="301" y="8"/>
                      </a:lnTo>
                      <a:lnTo>
                        <a:pt x="285" y="15"/>
                      </a:lnTo>
                      <a:lnTo>
                        <a:pt x="270" y="26"/>
                      </a:lnTo>
                      <a:lnTo>
                        <a:pt x="255" y="41"/>
                      </a:lnTo>
                      <a:lnTo>
                        <a:pt x="243" y="59"/>
                      </a:lnTo>
                      <a:lnTo>
                        <a:pt x="231" y="80"/>
                      </a:lnTo>
                      <a:lnTo>
                        <a:pt x="223" y="103"/>
                      </a:lnTo>
                      <a:lnTo>
                        <a:pt x="213" y="88"/>
                      </a:lnTo>
                      <a:lnTo>
                        <a:pt x="203" y="75"/>
                      </a:lnTo>
                      <a:lnTo>
                        <a:pt x="191" y="66"/>
                      </a:lnTo>
                      <a:lnTo>
                        <a:pt x="180" y="60"/>
                      </a:lnTo>
                      <a:lnTo>
                        <a:pt x="168" y="56"/>
                      </a:lnTo>
                      <a:lnTo>
                        <a:pt x="156" y="55"/>
                      </a:lnTo>
                      <a:lnTo>
                        <a:pt x="144" y="56"/>
                      </a:lnTo>
                      <a:lnTo>
                        <a:pt x="132" y="60"/>
                      </a:lnTo>
                      <a:lnTo>
                        <a:pt x="120" y="66"/>
                      </a:lnTo>
                      <a:lnTo>
                        <a:pt x="109" y="75"/>
                      </a:lnTo>
                      <a:lnTo>
                        <a:pt x="99" y="86"/>
                      </a:lnTo>
                      <a:lnTo>
                        <a:pt x="91" y="98"/>
                      </a:lnTo>
                      <a:lnTo>
                        <a:pt x="82" y="113"/>
                      </a:lnTo>
                      <a:lnTo>
                        <a:pt x="77" y="130"/>
                      </a:lnTo>
                      <a:lnTo>
                        <a:pt x="72" y="149"/>
                      </a:lnTo>
                      <a:lnTo>
                        <a:pt x="71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  <a:lnTo>
                        <a:pt x="70" y="168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172960" y="3893400"/>
                  <a:ext cx="1004760" cy="640800"/>
                </a:xfrm>
                <a:custGeom>
                  <a:avLst/>
                  <a:gdLst/>
                  <a:ahLst/>
                  <a:rect l="l" t="t" r="r" b="b"/>
                  <a:pathLst>
                    <a:path w="681" h="591">
                      <a:moveTo>
                        <a:pt x="66" y="149"/>
                      </a:moveTo>
                      <a:lnTo>
                        <a:pt x="54" y="155"/>
                      </a:lnTo>
                      <a:lnTo>
                        <a:pt x="44" y="163"/>
                      </a:lnTo>
                      <a:lnTo>
                        <a:pt x="34" y="173"/>
                      </a:lnTo>
                      <a:lnTo>
                        <a:pt x="26" y="183"/>
                      </a:lnTo>
                      <a:lnTo>
                        <a:pt x="18" y="196"/>
                      </a:lnTo>
                      <a:lnTo>
                        <a:pt x="12" y="210"/>
                      </a:lnTo>
                      <a:lnTo>
                        <a:pt x="7" y="225"/>
                      </a:lnTo>
                      <a:lnTo>
                        <a:pt x="4" y="240"/>
                      </a:lnTo>
                      <a:lnTo>
                        <a:pt x="2" y="258"/>
                      </a:lnTo>
                      <a:lnTo>
                        <a:pt x="0" y="274"/>
                      </a:lnTo>
                      <a:lnTo>
                        <a:pt x="0" y="291"/>
                      </a:lnTo>
                      <a:lnTo>
                        <a:pt x="2" y="307"/>
                      </a:lnTo>
                      <a:lnTo>
                        <a:pt x="5" y="323"/>
                      </a:lnTo>
                      <a:lnTo>
                        <a:pt x="10" y="338"/>
                      </a:lnTo>
                      <a:lnTo>
                        <a:pt x="15" y="353"/>
                      </a:lnTo>
                      <a:lnTo>
                        <a:pt x="24" y="365"/>
                      </a:lnTo>
                      <a:lnTo>
                        <a:pt x="18" y="386"/>
                      </a:lnTo>
                      <a:lnTo>
                        <a:pt x="17" y="405"/>
                      </a:lnTo>
                      <a:lnTo>
                        <a:pt x="18" y="425"/>
                      </a:lnTo>
                      <a:lnTo>
                        <a:pt x="21" y="443"/>
                      </a:lnTo>
                      <a:lnTo>
                        <a:pt x="26" y="461"/>
                      </a:lnTo>
                      <a:lnTo>
                        <a:pt x="32" y="476"/>
                      </a:lnTo>
                      <a:lnTo>
                        <a:pt x="40" y="491"/>
                      </a:lnTo>
                      <a:lnTo>
                        <a:pt x="51" y="502"/>
                      </a:lnTo>
                      <a:lnTo>
                        <a:pt x="61" y="511"/>
                      </a:lnTo>
                      <a:lnTo>
                        <a:pt x="73" y="518"/>
                      </a:lnTo>
                      <a:lnTo>
                        <a:pt x="85" y="522"/>
                      </a:lnTo>
                      <a:lnTo>
                        <a:pt x="99" y="522"/>
                      </a:lnTo>
                      <a:lnTo>
                        <a:pt x="111" y="521"/>
                      </a:lnTo>
                      <a:lnTo>
                        <a:pt x="125" y="515"/>
                      </a:lnTo>
                      <a:lnTo>
                        <a:pt x="138" y="505"/>
                      </a:lnTo>
                      <a:lnTo>
                        <a:pt x="151" y="491"/>
                      </a:lnTo>
                      <a:lnTo>
                        <a:pt x="159" y="503"/>
                      </a:lnTo>
                      <a:lnTo>
                        <a:pt x="168" y="513"/>
                      </a:lnTo>
                      <a:lnTo>
                        <a:pt x="178" y="522"/>
                      </a:lnTo>
                      <a:lnTo>
                        <a:pt x="189" y="529"/>
                      </a:lnTo>
                      <a:lnTo>
                        <a:pt x="200" y="536"/>
                      </a:lnTo>
                      <a:lnTo>
                        <a:pt x="212" y="542"/>
                      </a:lnTo>
                      <a:lnTo>
                        <a:pt x="224" y="546"/>
                      </a:lnTo>
                      <a:lnTo>
                        <a:pt x="237" y="549"/>
                      </a:lnTo>
                      <a:lnTo>
                        <a:pt x="249" y="552"/>
                      </a:lnTo>
                      <a:lnTo>
                        <a:pt x="261" y="554"/>
                      </a:lnTo>
                      <a:lnTo>
                        <a:pt x="272" y="554"/>
                      </a:lnTo>
                      <a:lnTo>
                        <a:pt x="286" y="552"/>
                      </a:lnTo>
                      <a:lnTo>
                        <a:pt x="297" y="550"/>
                      </a:lnTo>
                      <a:lnTo>
                        <a:pt x="309" y="546"/>
                      </a:lnTo>
                      <a:lnTo>
                        <a:pt x="320" y="541"/>
                      </a:lnTo>
                      <a:lnTo>
                        <a:pt x="332" y="535"/>
                      </a:lnTo>
                      <a:lnTo>
                        <a:pt x="344" y="549"/>
                      </a:lnTo>
                      <a:lnTo>
                        <a:pt x="358" y="561"/>
                      </a:lnTo>
                      <a:lnTo>
                        <a:pt x="374" y="571"/>
                      </a:lnTo>
                      <a:lnTo>
                        <a:pt x="389" y="579"/>
                      </a:lnTo>
                      <a:lnTo>
                        <a:pt x="405" y="585"/>
                      </a:lnTo>
                      <a:lnTo>
                        <a:pt x="422" y="588"/>
                      </a:lnTo>
                      <a:lnTo>
                        <a:pt x="440" y="590"/>
                      </a:lnTo>
                      <a:lnTo>
                        <a:pt x="457" y="588"/>
                      </a:lnTo>
                      <a:lnTo>
                        <a:pt x="473" y="587"/>
                      </a:lnTo>
                      <a:lnTo>
                        <a:pt x="490" y="582"/>
                      </a:lnTo>
                      <a:lnTo>
                        <a:pt x="506" y="576"/>
                      </a:lnTo>
                      <a:lnTo>
                        <a:pt x="523" y="567"/>
                      </a:lnTo>
                      <a:lnTo>
                        <a:pt x="537" y="557"/>
                      </a:lnTo>
                      <a:lnTo>
                        <a:pt x="552" y="545"/>
                      </a:lnTo>
                      <a:lnTo>
                        <a:pt x="566" y="530"/>
                      </a:lnTo>
                      <a:lnTo>
                        <a:pt x="579" y="514"/>
                      </a:lnTo>
                      <a:lnTo>
                        <a:pt x="594" y="516"/>
                      </a:lnTo>
                      <a:lnTo>
                        <a:pt x="610" y="515"/>
                      </a:lnTo>
                      <a:lnTo>
                        <a:pt x="624" y="509"/>
                      </a:lnTo>
                      <a:lnTo>
                        <a:pt x="637" y="499"/>
                      </a:lnTo>
                      <a:lnTo>
                        <a:pt x="647" y="487"/>
                      </a:lnTo>
                      <a:lnTo>
                        <a:pt x="658" y="471"/>
                      </a:lnTo>
                      <a:lnTo>
                        <a:pt x="666" y="454"/>
                      </a:lnTo>
                      <a:lnTo>
                        <a:pt x="673" y="434"/>
                      </a:lnTo>
                      <a:lnTo>
                        <a:pt x="677" y="414"/>
                      </a:lnTo>
                      <a:lnTo>
                        <a:pt x="679" y="393"/>
                      </a:lnTo>
                      <a:lnTo>
                        <a:pt x="680" y="372"/>
                      </a:lnTo>
                      <a:lnTo>
                        <a:pt x="678" y="351"/>
                      </a:lnTo>
                      <a:lnTo>
                        <a:pt x="674" y="331"/>
                      </a:lnTo>
                      <a:lnTo>
                        <a:pt x="667" y="311"/>
                      </a:lnTo>
                      <a:lnTo>
                        <a:pt x="658" y="294"/>
                      </a:lnTo>
                      <a:lnTo>
                        <a:pt x="646" y="278"/>
                      </a:lnTo>
                      <a:lnTo>
                        <a:pt x="653" y="268"/>
                      </a:lnTo>
                      <a:lnTo>
                        <a:pt x="658" y="257"/>
                      </a:lnTo>
                      <a:lnTo>
                        <a:pt x="661" y="245"/>
                      </a:lnTo>
                      <a:lnTo>
                        <a:pt x="664" y="232"/>
                      </a:lnTo>
                      <a:lnTo>
                        <a:pt x="664" y="220"/>
                      </a:lnTo>
                      <a:lnTo>
                        <a:pt x="663" y="208"/>
                      </a:lnTo>
                      <a:lnTo>
                        <a:pt x="660" y="196"/>
                      </a:lnTo>
                      <a:lnTo>
                        <a:pt x="658" y="185"/>
                      </a:lnTo>
                      <a:lnTo>
                        <a:pt x="651" y="176"/>
                      </a:lnTo>
                      <a:lnTo>
                        <a:pt x="645" y="167"/>
                      </a:lnTo>
                      <a:lnTo>
                        <a:pt x="638" y="160"/>
                      </a:lnTo>
                      <a:lnTo>
                        <a:pt x="631" y="153"/>
                      </a:lnTo>
                      <a:lnTo>
                        <a:pt x="622" y="150"/>
                      </a:lnTo>
                      <a:lnTo>
                        <a:pt x="613" y="149"/>
                      </a:lnTo>
                      <a:lnTo>
                        <a:pt x="603" y="150"/>
                      </a:lnTo>
                      <a:lnTo>
                        <a:pt x="594" y="154"/>
                      </a:lnTo>
                      <a:lnTo>
                        <a:pt x="587" y="144"/>
                      </a:lnTo>
                      <a:lnTo>
                        <a:pt x="579" y="133"/>
                      </a:lnTo>
                      <a:lnTo>
                        <a:pt x="569" y="123"/>
                      </a:lnTo>
                      <a:lnTo>
                        <a:pt x="560" y="113"/>
                      </a:lnTo>
                      <a:lnTo>
                        <a:pt x="550" y="105"/>
                      </a:lnTo>
                      <a:lnTo>
                        <a:pt x="540" y="98"/>
                      </a:lnTo>
                      <a:lnTo>
                        <a:pt x="528" y="92"/>
                      </a:lnTo>
                      <a:lnTo>
                        <a:pt x="518" y="86"/>
                      </a:lnTo>
                      <a:lnTo>
                        <a:pt x="506" y="83"/>
                      </a:lnTo>
                      <a:lnTo>
                        <a:pt x="494" y="80"/>
                      </a:lnTo>
                      <a:lnTo>
                        <a:pt x="482" y="79"/>
                      </a:lnTo>
                      <a:lnTo>
                        <a:pt x="473" y="77"/>
                      </a:lnTo>
                      <a:lnTo>
                        <a:pt x="461" y="79"/>
                      </a:lnTo>
                      <a:lnTo>
                        <a:pt x="451" y="81"/>
                      </a:lnTo>
                      <a:lnTo>
                        <a:pt x="440" y="84"/>
                      </a:lnTo>
                      <a:lnTo>
                        <a:pt x="430" y="88"/>
                      </a:lnTo>
                      <a:lnTo>
                        <a:pt x="420" y="68"/>
                      </a:lnTo>
                      <a:lnTo>
                        <a:pt x="410" y="50"/>
                      </a:lnTo>
                      <a:lnTo>
                        <a:pt x="396" y="35"/>
                      </a:lnTo>
                      <a:lnTo>
                        <a:pt x="383" y="22"/>
                      </a:lnTo>
                      <a:lnTo>
                        <a:pt x="368" y="13"/>
                      </a:lnTo>
                      <a:lnTo>
                        <a:pt x="352" y="6"/>
                      </a:lnTo>
                      <a:lnTo>
                        <a:pt x="336" y="2"/>
                      </a:lnTo>
                      <a:lnTo>
                        <a:pt x="321" y="0"/>
                      </a:lnTo>
                      <a:lnTo>
                        <a:pt x="303" y="2"/>
                      </a:lnTo>
                      <a:lnTo>
                        <a:pt x="288" y="6"/>
                      </a:lnTo>
                      <a:lnTo>
                        <a:pt x="272" y="14"/>
                      </a:lnTo>
                      <a:lnTo>
                        <a:pt x="257" y="23"/>
                      </a:lnTo>
                      <a:lnTo>
                        <a:pt x="243" y="36"/>
                      </a:lnTo>
                      <a:lnTo>
                        <a:pt x="231" y="52"/>
                      </a:lnTo>
                      <a:lnTo>
                        <a:pt x="220" y="70"/>
                      </a:lnTo>
                      <a:lnTo>
                        <a:pt x="212" y="91"/>
                      </a:lnTo>
                      <a:lnTo>
                        <a:pt x="203" y="78"/>
                      </a:lnTo>
                      <a:lnTo>
                        <a:pt x="193" y="67"/>
                      </a:lnTo>
                      <a:lnTo>
                        <a:pt x="182" y="58"/>
                      </a:lnTo>
                      <a:lnTo>
                        <a:pt x="172" y="52"/>
                      </a:lnTo>
                      <a:lnTo>
                        <a:pt x="160" y="48"/>
                      </a:lnTo>
                      <a:lnTo>
                        <a:pt x="148" y="47"/>
                      </a:lnTo>
                      <a:lnTo>
                        <a:pt x="137" y="48"/>
                      </a:lnTo>
                      <a:lnTo>
                        <a:pt x="126" y="49"/>
                      </a:lnTo>
                      <a:lnTo>
                        <a:pt x="114" y="54"/>
                      </a:lnTo>
                      <a:lnTo>
                        <a:pt x="104" y="61"/>
                      </a:lnTo>
                      <a:lnTo>
                        <a:pt x="94" y="70"/>
                      </a:lnTo>
                      <a:lnTo>
                        <a:pt x="86" y="80"/>
                      </a:lnTo>
                      <a:lnTo>
                        <a:pt x="78" y="93"/>
                      </a:lnTo>
                      <a:lnTo>
                        <a:pt x="73" y="107"/>
                      </a:lnTo>
                      <a:lnTo>
                        <a:pt x="69" y="123"/>
                      </a:lnTo>
                      <a:lnTo>
                        <a:pt x="68" y="140"/>
                      </a:lnTo>
                      <a:lnTo>
                        <a:pt x="66" y="141"/>
                      </a:lnTo>
                      <a:lnTo>
                        <a:pt x="66" y="141"/>
                      </a:lnTo>
                      <a:lnTo>
                        <a:pt x="66" y="141"/>
                      </a:lnTo>
                      <a:lnTo>
                        <a:pt x="66" y="141"/>
                      </a:lnTo>
                      <a:lnTo>
                        <a:pt x="66" y="144"/>
                      </a:lnTo>
                      <a:lnTo>
                        <a:pt x="66" y="144"/>
                      </a:lnTo>
                      <a:lnTo>
                        <a:pt x="66" y="145"/>
                      </a:lnTo>
                      <a:lnTo>
                        <a:pt x="66" y="145"/>
                      </a:lnTo>
                      <a:lnTo>
                        <a:pt x="66" y="147"/>
                      </a:lnTo>
                      <a:lnTo>
                        <a:pt x="66" y="147"/>
                      </a:lnTo>
                      <a:lnTo>
                        <a:pt x="66" y="148"/>
                      </a:lnTo>
                      <a:lnTo>
                        <a:pt x="66" y="148"/>
                      </a:lnTo>
                      <a:lnTo>
                        <a:pt x="66" y="149"/>
                      </a:lnTo>
                      <a:lnTo>
                        <a:pt x="66" y="149"/>
                      </a:lnTo>
                      <a:lnTo>
                        <a:pt x="66" y="149"/>
                      </a:lnTo>
                      <a:lnTo>
                        <a:pt x="66" y="149"/>
                      </a:lnTo>
                      <a:lnTo>
                        <a:pt x="66" y="14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2266200" y="4090680"/>
                <a:ext cx="783360" cy="276480"/>
                <a:chOff x="2266200" y="4090680"/>
                <a:chExt cx="783360" cy="276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266200" y="4124160"/>
                  <a:ext cx="783360" cy="203760"/>
                </a:xfrm>
                <a:custGeom>
                  <a:avLst/>
                  <a:gdLst/>
                  <a:ahLst/>
                  <a:rect l="l" t="t" r="r" b="b"/>
                  <a:pathLst>
                    <a:path w="531" h="188">
                      <a:moveTo>
                        <a:pt x="0" y="187"/>
                      </a:moveTo>
                      <a:lnTo>
                        <a:pt x="530" y="187"/>
                      </a:lnTo>
                      <a:lnTo>
                        <a:pt x="530" y="0"/>
                      </a:lnTo>
                      <a:lnTo>
                        <a:pt x="0" y="0"/>
                      </a:lnTo>
                      <a:lnTo>
                        <a:pt x="0" y="187"/>
                      </a:lnTo>
                      <a:lnTo>
                        <a:pt x="0" y="18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329560" y="4090680"/>
                  <a:ext cx="684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434880"/>
                      <a:tab algn="l" pos="870120"/>
                      <a:tab algn="l" pos="1305000"/>
                      <a:tab algn="l" pos="1739880"/>
                      <a:tab algn="l" pos="2174760"/>
                      <a:tab algn="l" pos="2610000"/>
                      <a:tab algn="l" pos="3044880"/>
                      <a:tab algn="l" pos="3479760"/>
                      <a:tab algn="l" pos="3914640"/>
                      <a:tab algn="l" pos="4349880"/>
                      <a:tab algn="l" pos="4784760"/>
                      <a:tab algn="l" pos="5219640"/>
                      <a:tab algn="l" pos="5654520"/>
                      <a:tab algn="l" pos="6089760"/>
                      <a:tab algn="l" pos="6524640"/>
                      <a:tab algn="l" pos="6959520"/>
                      <a:tab algn="l" pos="7394400"/>
                      <a:tab algn="l" pos="7829640"/>
                      <a:tab algn="l" pos="8264520"/>
                      <a:tab algn="l" pos="8699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OAP</a:t>
                  </a:r>
                  <a:endParaRPr b="0" lang="en-US" sz="9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434880"/>
                      <a:tab algn="l" pos="870120"/>
                      <a:tab algn="l" pos="1305000"/>
                      <a:tab algn="l" pos="1739880"/>
                      <a:tab algn="l" pos="2174760"/>
                      <a:tab algn="l" pos="2610000"/>
                      <a:tab algn="l" pos="3044880"/>
                      <a:tab algn="l" pos="3479760"/>
                      <a:tab algn="l" pos="3914640"/>
                      <a:tab algn="l" pos="4349880"/>
                      <a:tab algn="l" pos="4784760"/>
                      <a:tab algn="l" pos="5219640"/>
                      <a:tab algn="l" pos="5654520"/>
                      <a:tab algn="l" pos="6089760"/>
                      <a:tab algn="l" pos="6524640"/>
                      <a:tab algn="l" pos="6959520"/>
                      <a:tab algn="l" pos="7394400"/>
                      <a:tab algn="l" pos="7829640"/>
                      <a:tab algn="l" pos="8264520"/>
                      <a:tab algn="l" pos="8699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TTP/S</a:t>
                  </a:r>
                  <a:endParaRPr b="0" lang="en-US" sz="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4388040" y="5877000"/>
              <a:ext cx="56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fa907"/>
                  </a:solidFill>
                  <a:latin typeface="Arial"/>
                </a:rPr>
                <a:t>DMZ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07080" y="114300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fa907"/>
                  </a:solidFill>
                  <a:latin typeface="Arial"/>
                </a:rPr>
                <a:t>Internal Network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89880" y="3213000"/>
              <a:ext cx="761760" cy="6098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ySQL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5465880" y="1268280"/>
              <a:ext cx="362880" cy="5104800"/>
              <a:chOff x="5465880" y="1268280"/>
              <a:chExt cx="362880" cy="51048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5594040" y="1268280"/>
                <a:ext cx="151920" cy="5104800"/>
                <a:chOff x="5594040" y="1268280"/>
                <a:chExt cx="151920" cy="51048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594040" y="1268280"/>
                  <a:ext cx="151920" cy="51048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594040" y="3092040"/>
                  <a:ext cx="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594040" y="600876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594040" y="564444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594040" y="52804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594040" y="49132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594040" y="454896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594040" y="418464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594040" y="38206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594040" y="345636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594040" y="309204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594040" y="27280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594040" y="23608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594040" y="199656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594040" y="163224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 rot="10800000">
                <a:off x="5465880" y="3521520"/>
                <a:ext cx="3628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Firewall Node</a:t>
                </a:r>
                <a:endParaRPr b="0" lang="en-US" sz="1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594240" y="1268280"/>
              <a:ext cx="362880" cy="5104800"/>
              <a:chOff x="3594240" y="1268280"/>
              <a:chExt cx="362880" cy="510480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3722400" y="1268280"/>
                <a:ext cx="151920" cy="5104800"/>
                <a:chOff x="3722400" y="1268280"/>
                <a:chExt cx="151920" cy="51048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722400" y="1268280"/>
                  <a:ext cx="151920" cy="51048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722400" y="3092040"/>
                  <a:ext cx="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22400" y="600876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22400" y="564444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722400" y="52804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22400" y="49132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722400" y="454896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22400" y="418464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722400" y="38206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722400" y="345636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722400" y="309204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722400" y="27280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722400" y="236088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722400" y="199656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722400" y="1632240"/>
                  <a:ext cx="151920" cy="0"/>
                </a:xfrm>
                <a:prstGeom prst="line">
                  <a:avLst/>
                </a:prstGeom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 rot="10800000">
                <a:off x="3594240" y="3521520"/>
                <a:ext cx="3628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Firewall Node</a:t>
                </a:r>
                <a:endParaRPr b="0" lang="en-US" sz="1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2009880" y="3209400"/>
              <a:ext cx="287280" cy="3603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13160" y="3213000"/>
              <a:ext cx="762120" cy="609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ache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penEMR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33880" y="3141720"/>
              <a:ext cx="1079280" cy="216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162240" y="3716280"/>
              <a:ext cx="1150920" cy="6494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79280" y="105264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More Secured Deployment Scenari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onal Model – Software 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16360" y="1557360"/>
            <a:ext cx="3159000" cy="3322440"/>
            <a:chOff x="2916360" y="1557360"/>
            <a:chExt cx="3159000" cy="3322440"/>
          </a:xfrm>
        </p:grpSpPr>
        <p:grpSp>
          <p:nvGrpSpPr>
            <p:cNvPr id="311" name=""/>
            <p:cNvGrpSpPr/>
            <p:nvPr/>
          </p:nvGrpSpPr>
          <p:grpSpPr>
            <a:xfrm>
              <a:off x="5828040" y="3138480"/>
              <a:ext cx="247320" cy="388440"/>
              <a:chOff x="5828040" y="3138480"/>
              <a:chExt cx="247320" cy="388440"/>
            </a:xfrm>
          </p:grpSpPr>
          <p:sp>
            <p:nvSpPr>
              <p:cNvPr id="312" name=""/>
              <p:cNvSpPr/>
              <p:nvPr/>
            </p:nvSpPr>
            <p:spPr>
              <a:xfrm>
                <a:off x="5854680" y="3205080"/>
                <a:ext cx="215640" cy="321840"/>
              </a:xfrm>
              <a:custGeom>
                <a:avLst/>
                <a:gdLst/>
                <a:ahLst/>
                <a:rect l="l" t="t" r="r" b="b"/>
                <a:pathLst>
                  <a:path w="136" h="203">
                    <a:moveTo>
                      <a:pt x="0" y="0"/>
                    </a:moveTo>
                    <a:lnTo>
                      <a:pt x="104" y="56"/>
                    </a:lnTo>
                    <a:lnTo>
                      <a:pt x="136" y="40"/>
                    </a:lnTo>
                    <a:moveTo>
                      <a:pt x="104" y="56"/>
                    </a:moveTo>
                    <a:lnTo>
                      <a:pt x="104" y="203"/>
                    </a:lnTo>
                    <a:moveTo>
                      <a:pt x="0" y="26"/>
                    </a:moveTo>
                    <a:lnTo>
                      <a:pt x="104" y="82"/>
                    </a:lnTo>
                    <a:moveTo>
                      <a:pt x="0" y="52"/>
                    </a:moveTo>
                    <a:lnTo>
                      <a:pt x="104" y="109"/>
                    </a:lnTo>
                    <a:moveTo>
                      <a:pt x="0" y="78"/>
                    </a:moveTo>
                    <a:lnTo>
                      <a:pt x="104" y="135"/>
                    </a:lnTo>
                    <a:moveTo>
                      <a:pt x="0" y="105"/>
                    </a:moveTo>
                    <a:lnTo>
                      <a:pt x="104" y="162"/>
                    </a:lnTo>
                    <a:moveTo>
                      <a:pt x="0" y="132"/>
                    </a:moveTo>
                    <a:lnTo>
                      <a:pt x="104" y="188"/>
                    </a:lnTo>
                    <a:moveTo>
                      <a:pt x="76" y="146"/>
                    </a:moveTo>
                    <a:lnTo>
                      <a:pt x="76" y="173"/>
                    </a:lnTo>
                    <a:moveTo>
                      <a:pt x="19" y="116"/>
                    </a:moveTo>
                    <a:lnTo>
                      <a:pt x="19" y="142"/>
                    </a:lnTo>
                    <a:moveTo>
                      <a:pt x="47" y="104"/>
                    </a:moveTo>
                    <a:lnTo>
                      <a:pt x="47" y="131"/>
                    </a:lnTo>
                    <a:moveTo>
                      <a:pt x="76" y="94"/>
                    </a:moveTo>
                    <a:lnTo>
                      <a:pt x="76" y="119"/>
                    </a:lnTo>
                    <a:moveTo>
                      <a:pt x="19" y="63"/>
                    </a:moveTo>
                    <a:lnTo>
                      <a:pt x="19" y="88"/>
                    </a:lnTo>
                    <a:moveTo>
                      <a:pt x="47" y="51"/>
                    </a:moveTo>
                    <a:lnTo>
                      <a:pt x="47" y="78"/>
                    </a:lnTo>
                    <a:moveTo>
                      <a:pt x="19" y="11"/>
                    </a:moveTo>
                    <a:lnTo>
                      <a:pt x="19" y="36"/>
                    </a:lnTo>
                  </a:path>
                </a:pathLst>
              </a:custGeom>
              <a:solidFill>
                <a:srgbClr val="ff6600">
                  <a:alpha val="45000"/>
                </a:srgbClr>
              </a:solidFill>
              <a:ln cap="rnd" w="7920">
                <a:solidFill>
                  <a:srgbClr val="e7e4c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28040" y="3138480"/>
                <a:ext cx="247320" cy="383760"/>
              </a:xfrm>
              <a:custGeom>
                <a:avLst/>
                <a:gdLst/>
                <a:ahLst/>
                <a:rect l="l" t="t" r="r" b="b"/>
                <a:pathLst>
                  <a:path w="156" h="242">
                    <a:moveTo>
                      <a:pt x="0" y="180"/>
                    </a:moveTo>
                    <a:lnTo>
                      <a:pt x="114" y="242"/>
                    </a:lnTo>
                    <a:lnTo>
                      <a:pt x="156" y="220"/>
                    </a:lnTo>
                    <a:lnTo>
                      <a:pt x="156" y="62"/>
                    </a:lnTo>
                    <a:lnTo>
                      <a:pt x="41" y="0"/>
                    </a:lnTo>
                    <a:lnTo>
                      <a:pt x="0" y="2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6600">
                  <a:alpha val="45000"/>
                </a:srgbClr>
              </a:solidFill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3965760" y="2781360"/>
              <a:ext cx="592200" cy="37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d528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d528d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5" name="computr2"/>
            <p:cNvSpPr/>
            <p:nvPr/>
          </p:nvSpPr>
          <p:spPr>
            <a:xfrm>
              <a:off x="3532320" y="1557360"/>
              <a:ext cx="519120" cy="522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aphicFrame>
          <p:nvGraphicFramePr>
            <p:cNvPr id="316" name=""/>
            <p:cNvGraphicFramePr/>
            <p:nvPr/>
          </p:nvGraphicFramePr>
          <p:xfrm>
            <a:off x="4626000" y="1557360"/>
            <a:ext cx="42084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26000" y="1557360"/>
                      <a:ext cx="42084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8" name=""/>
            <p:cNvSpPr/>
            <p:nvPr/>
          </p:nvSpPr>
          <p:spPr>
            <a:xfrm>
              <a:off x="4164120" y="183024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1d528d"/>
                  </a:solidFill>
                  <a:latin typeface="Arial"/>
                </a:rPr>
                <a:t>Mobile</a:t>
              </a:r>
              <a:endParaRPr b="0" lang="en-US" sz="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1d528d"/>
                  </a:solidFill>
                  <a:latin typeface="Arial"/>
                </a:rPr>
                <a:t>Device</a:t>
              </a:r>
              <a:endParaRPr b="0" lang="en-US" sz="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16360" y="1773360"/>
              <a:ext cx="6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1d528d"/>
                  </a:solidFill>
                  <a:latin typeface="Arial"/>
                </a:rPr>
                <a:t>Browser</a:t>
              </a:r>
              <a:endParaRPr b="0" lang="en-US" sz="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1d528d"/>
                  </a:solidFill>
                  <a:latin typeface="Arial"/>
                </a:rPr>
                <a:t>IE/Firefox</a:t>
              </a:r>
              <a:endParaRPr b="0" lang="en-US" sz="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5" idx="10"/>
              <a:endCxn id="314" idx="0"/>
            </p:cNvCxnSpPr>
            <p:nvPr/>
          </p:nvCxnSpPr>
          <p:spPr>
            <a:xfrm flipH="1" rot="16200000">
              <a:off x="3676680" y="2194920"/>
              <a:ext cx="702360" cy="470880"/>
            </a:xfrm>
            <a:prstGeom prst="curvedConnector5">
              <a:avLst>
                <a:gd name="adj1" fmla="val 49743"/>
                <a:gd name="adj2" fmla="val 49961"/>
                <a:gd name="adj3" fmla="val 49743"/>
              </a:avLst>
            </a:prstGeom>
            <a:ln w="9360">
              <a:solidFill>
                <a:srgbClr val="1d528d"/>
              </a:solidFill>
              <a:miter/>
            </a:ln>
          </p:spPr>
        </p:cxnSp>
        <p:cxnSp>
          <p:nvCxnSpPr>
            <p:cNvPr id="321" name=""/>
            <p:cNvCxnSpPr>
              <a:endCxn id="314" idx="7"/>
            </p:cNvCxnSpPr>
            <p:nvPr/>
          </p:nvCxnSpPr>
          <p:spPr>
            <a:xfrm rot="5400000">
              <a:off x="4333320" y="2333160"/>
              <a:ext cx="640440" cy="367560"/>
            </a:xfrm>
            <a:prstGeom prst="curvedConnector5">
              <a:avLst>
                <a:gd name="adj1" fmla="val 45388"/>
                <a:gd name="adj2" fmla="val 50000"/>
                <a:gd name="adj3" fmla="val 45388"/>
              </a:avLst>
            </a:prstGeom>
            <a:ln w="9360">
              <a:solidFill>
                <a:srgbClr val="1d528d"/>
              </a:solidFill>
              <a:miter/>
            </a:ln>
          </p:spPr>
        </p:cxnSp>
        <p:graphicFrame>
          <p:nvGraphicFramePr>
            <p:cNvPr id="322" name=""/>
            <p:cNvGraphicFramePr/>
            <p:nvPr/>
          </p:nvGraphicFramePr>
          <p:xfrm>
            <a:off x="4183200" y="3502080"/>
            <a:ext cx="28584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83200" y="3502080"/>
                      <a:ext cx="28584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4" name=""/>
            <p:cNvSpPr/>
            <p:nvPr/>
          </p:nvSpPr>
          <p:spPr>
            <a:xfrm>
              <a:off x="2980080" y="3300480"/>
              <a:ext cx="287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78480" y="4329000"/>
              <a:ext cx="1419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1d528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d528d"/>
                  </a:solidFill>
                  <a:latin typeface="Arial"/>
                </a:rPr>
                <a:t>Apache (SSL)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1d528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d528d"/>
                  </a:solidFill>
                  <a:latin typeface="Arial"/>
                </a:rPr>
                <a:t>OpenEMR 4.1.0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1d528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d528d"/>
                  </a:solidFill>
                  <a:latin typeface="Arial"/>
                </a:rPr>
                <a:t>MySQL Database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26120" y="3141720"/>
              <a:ext cx="0" cy="3603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24000" y="105264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Typical Deployment Scenari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onal Model – Software 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76720" y="1268280"/>
            <a:ext cx="3159000" cy="4219920"/>
            <a:chOff x="3276720" y="1268280"/>
            <a:chExt cx="3159000" cy="4219920"/>
          </a:xfrm>
        </p:grpSpPr>
        <p:grpSp>
          <p:nvGrpSpPr>
            <p:cNvPr id="330" name=""/>
            <p:cNvGrpSpPr/>
            <p:nvPr/>
          </p:nvGrpSpPr>
          <p:grpSpPr>
            <a:xfrm>
              <a:off x="6188040" y="2481120"/>
              <a:ext cx="247680" cy="389160"/>
              <a:chOff x="6188040" y="2481120"/>
              <a:chExt cx="247680" cy="389160"/>
            </a:xfrm>
          </p:grpSpPr>
          <p:sp>
            <p:nvSpPr>
              <p:cNvPr id="331" name=""/>
              <p:cNvSpPr/>
              <p:nvPr/>
            </p:nvSpPr>
            <p:spPr>
              <a:xfrm>
                <a:off x="6215040" y="2548080"/>
                <a:ext cx="216000" cy="322200"/>
              </a:xfrm>
              <a:custGeom>
                <a:avLst/>
                <a:gdLst/>
                <a:ahLst/>
                <a:rect l="l" t="t" r="r" b="b"/>
                <a:pathLst>
                  <a:path w="136" h="203">
                    <a:moveTo>
                      <a:pt x="0" y="0"/>
                    </a:moveTo>
                    <a:lnTo>
                      <a:pt x="104" y="56"/>
                    </a:lnTo>
                    <a:lnTo>
                      <a:pt x="136" y="40"/>
                    </a:lnTo>
                    <a:moveTo>
                      <a:pt x="104" y="56"/>
                    </a:moveTo>
                    <a:lnTo>
                      <a:pt x="104" y="203"/>
                    </a:lnTo>
                    <a:moveTo>
                      <a:pt x="0" y="26"/>
                    </a:moveTo>
                    <a:lnTo>
                      <a:pt x="104" y="82"/>
                    </a:lnTo>
                    <a:moveTo>
                      <a:pt x="0" y="52"/>
                    </a:moveTo>
                    <a:lnTo>
                      <a:pt x="104" y="109"/>
                    </a:lnTo>
                    <a:moveTo>
                      <a:pt x="0" y="78"/>
                    </a:moveTo>
                    <a:lnTo>
                      <a:pt x="104" y="135"/>
                    </a:lnTo>
                    <a:moveTo>
                      <a:pt x="0" y="105"/>
                    </a:moveTo>
                    <a:lnTo>
                      <a:pt x="104" y="162"/>
                    </a:lnTo>
                    <a:moveTo>
                      <a:pt x="0" y="132"/>
                    </a:moveTo>
                    <a:lnTo>
                      <a:pt x="104" y="188"/>
                    </a:lnTo>
                    <a:moveTo>
                      <a:pt x="76" y="146"/>
                    </a:moveTo>
                    <a:lnTo>
                      <a:pt x="76" y="173"/>
                    </a:lnTo>
                    <a:moveTo>
                      <a:pt x="19" y="116"/>
                    </a:moveTo>
                    <a:lnTo>
                      <a:pt x="19" y="142"/>
                    </a:lnTo>
                    <a:moveTo>
                      <a:pt x="47" y="104"/>
                    </a:moveTo>
                    <a:lnTo>
                      <a:pt x="47" y="131"/>
                    </a:lnTo>
                    <a:moveTo>
                      <a:pt x="76" y="94"/>
                    </a:moveTo>
                    <a:lnTo>
                      <a:pt x="76" y="119"/>
                    </a:lnTo>
                    <a:moveTo>
                      <a:pt x="19" y="63"/>
                    </a:moveTo>
                    <a:lnTo>
                      <a:pt x="19" y="88"/>
                    </a:lnTo>
                    <a:moveTo>
                      <a:pt x="47" y="51"/>
                    </a:moveTo>
                    <a:lnTo>
                      <a:pt x="47" y="78"/>
                    </a:lnTo>
                    <a:moveTo>
                      <a:pt x="19" y="11"/>
                    </a:moveTo>
                    <a:lnTo>
                      <a:pt x="19" y="36"/>
                    </a:lnTo>
                  </a:path>
                </a:pathLst>
              </a:custGeom>
              <a:solidFill>
                <a:srgbClr val="ff6600">
                  <a:alpha val="45000"/>
                </a:srgbClr>
              </a:solidFill>
              <a:ln cap="rnd" w="7920">
                <a:solidFill>
                  <a:srgbClr val="e7e4c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188040" y="2481120"/>
                <a:ext cx="247680" cy="384120"/>
              </a:xfrm>
              <a:custGeom>
                <a:avLst/>
                <a:gdLst/>
                <a:ahLst/>
                <a:rect l="l" t="t" r="r" b="b"/>
                <a:pathLst>
                  <a:path w="156" h="242">
                    <a:moveTo>
                      <a:pt x="0" y="180"/>
                    </a:moveTo>
                    <a:lnTo>
                      <a:pt x="114" y="242"/>
                    </a:lnTo>
                    <a:lnTo>
                      <a:pt x="156" y="220"/>
                    </a:lnTo>
                    <a:lnTo>
                      <a:pt x="156" y="62"/>
                    </a:lnTo>
                    <a:lnTo>
                      <a:pt x="41" y="0"/>
                    </a:lnTo>
                    <a:lnTo>
                      <a:pt x="0" y="2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6600">
                  <a:alpha val="45000"/>
                </a:srgbClr>
              </a:solidFill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325760" y="2124000"/>
              <a:ext cx="592200" cy="37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1d528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d528d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computr2"/>
            <p:cNvSpPr/>
            <p:nvPr/>
          </p:nvSpPr>
          <p:spPr>
            <a:xfrm>
              <a:off x="3892680" y="1268280"/>
              <a:ext cx="519120" cy="522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aphicFrame>
          <p:nvGraphicFramePr>
            <p:cNvPr id="335" name=""/>
            <p:cNvGraphicFramePr/>
            <p:nvPr/>
          </p:nvGraphicFramePr>
          <p:xfrm>
            <a:off x="4986360" y="1268280"/>
            <a:ext cx="42084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86360" y="1268280"/>
                      <a:ext cx="42084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"/>
            <p:cNvSpPr/>
            <p:nvPr/>
          </p:nvSpPr>
          <p:spPr>
            <a:xfrm>
              <a:off x="4524480" y="15415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1d528d"/>
                  </a:solidFill>
                  <a:latin typeface="Arial"/>
                </a:rPr>
                <a:t>Mobile</a:t>
              </a:r>
              <a:endParaRPr b="0" lang="en-US" sz="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1d528d"/>
                  </a:solidFill>
                  <a:latin typeface="Arial"/>
                </a:rPr>
                <a:t>Device</a:t>
              </a:r>
              <a:endParaRPr b="0" lang="en-US" sz="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720" y="148428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1d528d"/>
                  </a:solidFill>
                  <a:latin typeface="Arial"/>
                </a:rPr>
                <a:t>Browser</a:t>
              </a:r>
              <a:endParaRPr b="0" lang="en-US" sz="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1d528d"/>
                  </a:solidFill>
                  <a:latin typeface="Arial"/>
                </a:rPr>
                <a:t>IE/Firefox</a:t>
              </a:r>
              <a:endParaRPr b="0" lang="en-US" sz="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339" name=""/>
            <p:cNvCxnSpPr>
              <a:stCxn id="334" idx="10"/>
              <a:endCxn id="333" idx="0"/>
            </p:cNvCxnSpPr>
            <p:nvPr/>
          </p:nvCxnSpPr>
          <p:spPr>
            <a:xfrm flipH="1" rot="16200000">
              <a:off x="4220280" y="1722240"/>
              <a:ext cx="334080" cy="470520"/>
            </a:xfrm>
            <a:prstGeom prst="curvedConnector5">
              <a:avLst>
                <a:gd name="adj1" fmla="val 49514"/>
                <a:gd name="adj2" fmla="val 50000"/>
                <a:gd name="adj3" fmla="val 49514"/>
              </a:avLst>
            </a:prstGeom>
            <a:ln w="9360">
              <a:solidFill>
                <a:srgbClr val="1d528d"/>
              </a:solidFill>
              <a:miter/>
            </a:ln>
          </p:spPr>
        </p:cxnSp>
        <p:cxnSp>
          <p:nvCxnSpPr>
            <p:cNvPr id="340" name=""/>
            <p:cNvCxnSpPr>
              <a:endCxn id="333" idx="7"/>
            </p:cNvCxnSpPr>
            <p:nvPr/>
          </p:nvCxnSpPr>
          <p:spPr>
            <a:xfrm rot="5400000">
              <a:off x="4877640" y="1860480"/>
              <a:ext cx="272520" cy="367200"/>
            </a:xfrm>
            <a:prstGeom prst="curvedConnector5">
              <a:avLst>
                <a:gd name="adj1" fmla="val 39153"/>
                <a:gd name="adj2" fmla="val 49950"/>
                <a:gd name="adj3" fmla="val 39153"/>
              </a:avLst>
            </a:prstGeom>
            <a:ln w="9360">
              <a:solidFill>
                <a:srgbClr val="1d528d"/>
              </a:solidFill>
              <a:miter/>
            </a:ln>
          </p:spPr>
        </p:cxnSp>
        <p:graphicFrame>
          <p:nvGraphicFramePr>
            <p:cNvPr id="341" name=""/>
            <p:cNvGraphicFramePr/>
            <p:nvPr/>
          </p:nvGraphicFramePr>
          <p:xfrm>
            <a:off x="4543560" y="2844720"/>
            <a:ext cx="285480" cy="75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43560" y="2844720"/>
                      <a:ext cx="285480" cy="7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3" name=""/>
            <p:cNvSpPr/>
            <p:nvPr/>
          </p:nvSpPr>
          <p:spPr>
            <a:xfrm>
              <a:off x="4788000" y="3284640"/>
              <a:ext cx="146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Apache (SSL)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OpenEMR 4.1.0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188040" y="3824280"/>
              <a:ext cx="247680" cy="388440"/>
              <a:chOff x="6188040" y="3824280"/>
              <a:chExt cx="247680" cy="388440"/>
            </a:xfrm>
          </p:grpSpPr>
          <p:sp>
            <p:nvSpPr>
              <p:cNvPr id="345" name=""/>
              <p:cNvSpPr/>
              <p:nvPr/>
            </p:nvSpPr>
            <p:spPr>
              <a:xfrm>
                <a:off x="6215040" y="3890880"/>
                <a:ext cx="216000" cy="321840"/>
              </a:xfrm>
              <a:custGeom>
                <a:avLst/>
                <a:gdLst/>
                <a:ahLst/>
                <a:rect l="l" t="t" r="r" b="b"/>
                <a:pathLst>
                  <a:path w="136" h="203">
                    <a:moveTo>
                      <a:pt x="0" y="0"/>
                    </a:moveTo>
                    <a:lnTo>
                      <a:pt x="104" y="56"/>
                    </a:lnTo>
                    <a:lnTo>
                      <a:pt x="136" y="40"/>
                    </a:lnTo>
                    <a:moveTo>
                      <a:pt x="104" y="56"/>
                    </a:moveTo>
                    <a:lnTo>
                      <a:pt x="104" y="203"/>
                    </a:lnTo>
                    <a:moveTo>
                      <a:pt x="0" y="26"/>
                    </a:moveTo>
                    <a:lnTo>
                      <a:pt x="104" y="82"/>
                    </a:lnTo>
                    <a:moveTo>
                      <a:pt x="0" y="52"/>
                    </a:moveTo>
                    <a:lnTo>
                      <a:pt x="104" y="109"/>
                    </a:lnTo>
                    <a:moveTo>
                      <a:pt x="0" y="78"/>
                    </a:moveTo>
                    <a:lnTo>
                      <a:pt x="104" y="135"/>
                    </a:lnTo>
                    <a:moveTo>
                      <a:pt x="0" y="105"/>
                    </a:moveTo>
                    <a:lnTo>
                      <a:pt x="104" y="162"/>
                    </a:lnTo>
                    <a:moveTo>
                      <a:pt x="0" y="132"/>
                    </a:moveTo>
                    <a:lnTo>
                      <a:pt x="104" y="188"/>
                    </a:lnTo>
                    <a:moveTo>
                      <a:pt x="76" y="146"/>
                    </a:moveTo>
                    <a:lnTo>
                      <a:pt x="76" y="173"/>
                    </a:lnTo>
                    <a:moveTo>
                      <a:pt x="19" y="116"/>
                    </a:moveTo>
                    <a:lnTo>
                      <a:pt x="19" y="142"/>
                    </a:lnTo>
                    <a:moveTo>
                      <a:pt x="47" y="104"/>
                    </a:moveTo>
                    <a:lnTo>
                      <a:pt x="47" y="131"/>
                    </a:lnTo>
                    <a:moveTo>
                      <a:pt x="76" y="94"/>
                    </a:moveTo>
                    <a:lnTo>
                      <a:pt x="76" y="119"/>
                    </a:lnTo>
                    <a:moveTo>
                      <a:pt x="19" y="63"/>
                    </a:moveTo>
                    <a:lnTo>
                      <a:pt x="19" y="88"/>
                    </a:lnTo>
                    <a:moveTo>
                      <a:pt x="47" y="51"/>
                    </a:moveTo>
                    <a:lnTo>
                      <a:pt x="47" y="78"/>
                    </a:lnTo>
                    <a:moveTo>
                      <a:pt x="19" y="11"/>
                    </a:moveTo>
                    <a:lnTo>
                      <a:pt x="19" y="36"/>
                    </a:lnTo>
                  </a:path>
                </a:pathLst>
              </a:custGeom>
              <a:solidFill>
                <a:srgbClr val="ff6600">
                  <a:alpha val="45000"/>
                </a:srgbClr>
              </a:solidFill>
              <a:ln cap="rnd" w="7920">
                <a:solidFill>
                  <a:srgbClr val="e7e4c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88040" y="3824280"/>
                <a:ext cx="247680" cy="383760"/>
              </a:xfrm>
              <a:custGeom>
                <a:avLst/>
                <a:gdLst/>
                <a:ahLst/>
                <a:rect l="l" t="t" r="r" b="b"/>
                <a:pathLst>
                  <a:path w="156" h="242">
                    <a:moveTo>
                      <a:pt x="0" y="180"/>
                    </a:moveTo>
                    <a:lnTo>
                      <a:pt x="114" y="242"/>
                    </a:lnTo>
                    <a:lnTo>
                      <a:pt x="156" y="220"/>
                    </a:lnTo>
                    <a:lnTo>
                      <a:pt x="156" y="62"/>
                    </a:lnTo>
                    <a:lnTo>
                      <a:pt x="41" y="0"/>
                    </a:lnTo>
                    <a:lnTo>
                      <a:pt x="0" y="2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6600">
                  <a:alpha val="45000"/>
                </a:srgbClr>
              </a:solidFill>
              <a:ln cap="rnd"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3317760" y="4022640"/>
              <a:ext cx="2873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40080" y="2643120"/>
              <a:ext cx="2873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4564080" y="4506840"/>
            <a:ext cx="285840" cy="735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64080" y="4506840"/>
                      <a:ext cx="285840" cy="7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4038480" y="5211720"/>
              <a:ext cx="141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MySQL Database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94280" y="4500720"/>
              <a:ext cx="657000" cy="26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86480" y="2484360"/>
              <a:ext cx="0" cy="3603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86480" y="3565440"/>
              <a:ext cx="0" cy="93528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50920" y="105264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More Secured Deployment Scenari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04:12:42Z</dcterms:created>
  <dc:creator>Bisi Adedokun</dc:creator>
  <dc:description/>
  <dc:language>en-US</dc:language>
  <cp:lastModifiedBy>Bisi Adedokun</cp:lastModifiedBy>
  <cp:lastPrinted>2012-02-12T21:23:34Z</cp:lastPrinted>
  <dcterms:modified xsi:type="dcterms:W3CDTF">2012-02-21T13:21:03Z</dcterms:modified>
  <cp:revision>96</cp:revision>
  <dc:subject/>
  <dc:title>Acenonyx Overview</dc:title>
</cp:coreProperties>
</file>